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AutoShape 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AutoShape 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87120" cy="1248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3800" cy="41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524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524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524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524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524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524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524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524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524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524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524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524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524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524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524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524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524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524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524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524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524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36C1F-EBF2-40D1-AFC2-4C0A874B4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700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57480"/>
            <a:ext cx="821700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54C19-BEAC-422E-BD8B-5167FBE25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7400" y="159984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5748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7400" y="395748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10C08-E078-4AD5-A64D-05A920B37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5320" y="159984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3440" y="159984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5748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5320" y="395748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3440" y="395748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F5203-847B-44FE-B5A1-4FA7BCAC9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1700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47225-CB2F-4C1B-AF53-56226C0AA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700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E1805-FE95-4667-8422-AF2948ED5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968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7400" y="1599840"/>
            <a:ext cx="400968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FD8C6-536C-4142-8C44-E71F3C9CC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E821A-F4A5-4798-B645-7AF94978C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1700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42FE6-7127-4B84-AAD5-F0AAEE78E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7400" y="1599840"/>
            <a:ext cx="400968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5748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89B9F-D026-43B6-9CBF-FB51ACD66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968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7400" y="159984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7400" y="395748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A3E45-26C4-404E-8C64-A6D9CCF67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7400" y="159984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57480"/>
            <a:ext cx="821700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090BE-4E8F-4FA1-A45A-09B00D4DA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1700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20760" cy="4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82880" cy="4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121120" cy="4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97800E9-9D4F-4486-AD87-2B6149DC0730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606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4800" spc="-1" strike="noStrike">
                <a:solidFill>
                  <a:srgbClr val="000000"/>
                </a:solidFill>
                <a:latin typeface="Arial"/>
              </a:rPr>
              <a:t>IL CONTENZIOSO </a:t>
            </a:r>
            <a:br>
              <a:rPr sz="4800"/>
            </a:br>
            <a:r>
              <a:rPr b="1" lang="it-IT" sz="4800" spc="-1" strike="noStrike">
                <a:solidFill>
                  <a:srgbClr val="000000"/>
                </a:solidFill>
                <a:latin typeface="Arial"/>
              </a:rPr>
              <a:t>TRIBUTARI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6084720" y="6165720"/>
            <a:ext cx="277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Prof. Costantino Pillitteri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53" name="Picture 6" descr="logo"/>
          <p:cNvPicPr/>
          <p:nvPr/>
        </p:nvPicPr>
        <p:blipFill>
          <a:blip r:embed="rId1"/>
          <a:stretch/>
        </p:blipFill>
        <p:spPr>
          <a:xfrm>
            <a:off x="539640" y="333360"/>
            <a:ext cx="1079640" cy="863640"/>
          </a:xfrm>
          <a:prstGeom prst="rect">
            <a:avLst/>
          </a:prstGeom>
          <a:ln w="0">
            <a:noFill/>
          </a:ln>
        </p:spPr>
      </p:pic>
      <p:sp>
        <p:nvSpPr>
          <p:cNvPr id="54" name="Text Box 7"/>
          <p:cNvSpPr/>
          <p:nvPr/>
        </p:nvSpPr>
        <p:spPr>
          <a:xfrm>
            <a:off x="1743120" y="334800"/>
            <a:ext cx="6359040" cy="12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it-IT" sz="1600" spc="-1" strike="noStrike">
                <a:solidFill>
                  <a:srgbClr val="000000"/>
                </a:solidFill>
                <a:latin typeface="Century Schoolbook"/>
              </a:rPr>
              <a:t>Ordine dei Dottori Commercialisti e degli esperti contabili di Palermo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Century Schoolbook"/>
              </a:rPr>
              <a:t>Circoscrizione dei Tribunali di Palermo e Termini Imerese – Ente Pubblico non economico</a:t>
            </a:r>
            <a:r>
              <a:rPr b="0" i="1" lang="it-IT" sz="14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it-IT" sz="1200" spc="-1" strike="noStrike">
                <a:solidFill>
                  <a:srgbClr val="000000"/>
                </a:solidFill>
                <a:latin typeface="Century Schoolbook"/>
              </a:rPr>
              <a:t>Incontro formativo tirocinanti del 16.04.2018 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4000" spc="-1" strike="noStrike" u="sng">
                <a:solidFill>
                  <a:srgbClr val="c5000b"/>
                </a:solidFill>
                <a:uFillTx/>
                <a:latin typeface="Arial"/>
              </a:rPr>
              <a:t>MODALITÀ di PROPOSIZIONE del RICORSO</a:t>
            </a:r>
            <a:r>
              <a:rPr b="0" lang="it-IT" sz="4000" spc="-1" strike="noStrike">
                <a:solidFill>
                  <a:srgbClr val="c5000b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5"/>
          <p:cNvSpPr/>
          <p:nvPr/>
        </p:nvSpPr>
        <p:spPr>
          <a:xfrm>
            <a:off x="179280" y="1557360"/>
            <a:ext cx="869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Non va più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 redatto in carta da bollo,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essendo i ricorsi notificati a partire dal 7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Luglio 2011 assoggettati al Contributo Unificato Tributario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8" name="Text Box 6"/>
          <p:cNvSpPr/>
          <p:nvPr/>
        </p:nvSpPr>
        <p:spPr>
          <a:xfrm>
            <a:off x="167040" y="2349360"/>
            <a:ext cx="872100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Va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 intestato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lla Commissione Tributaria Provinciale territorialmente competente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Text Box 7"/>
          <p:cNvSpPr/>
          <p:nvPr/>
        </p:nvSpPr>
        <p:spPr>
          <a:xfrm>
            <a:off x="144360" y="2781360"/>
            <a:ext cx="9107640" cy="15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Viene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 trasmesso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lla controparte resistente (Ufficio finanziario, Ente locale,          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gente della riscossione):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Text Box 8"/>
          <p:cNvSpPr/>
          <p:nvPr/>
        </p:nvSpPr>
        <p:spPr>
          <a:xfrm>
            <a:off x="395280" y="3429000"/>
            <a:ext cx="835344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on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spedizione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(alla controparte)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dell'originale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 mezzo posta in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plico senza busta raccomandato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.R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1" name="Text Box 9"/>
          <p:cNvSpPr/>
          <p:nvPr/>
        </p:nvSpPr>
        <p:spPr>
          <a:xfrm>
            <a:off x="357120" y="4071960"/>
            <a:ext cx="835344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o con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consegna diretta dell'originale all'Ufficio finanziario o all'Ente locale,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he rilascia ricevuta su un documento separato intestato al consegnatario. (N.B.: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non è ammessa la consegna diretta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del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ricorso all'Agente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della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riscossione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" name="Text Box 10"/>
          <p:cNvSpPr/>
          <p:nvPr/>
        </p:nvSpPr>
        <p:spPr>
          <a:xfrm>
            <a:off x="395280" y="5265720"/>
            <a:ext cx="8497800" cy="15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mediante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notifica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della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copia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(conforme all'originale) del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ricorso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 mezzo di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Ufficiale Giudiziario, che rilascia «relata di notifica»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sull'originale;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l quale viene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restituito al difensore del ricorrente (o, nei casi di ricorso diretto del ricorrente,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 quest'ultimo)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0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4000" spc="-1" strike="noStrike" u="sng">
                <a:solidFill>
                  <a:srgbClr val="c5000b"/>
                </a:solidFill>
                <a:uFillTx/>
                <a:latin typeface="Arial"/>
              </a:rPr>
              <a:t>TERMINI per la PROPOSIZIONE del RICORSO</a:t>
            </a:r>
            <a:r>
              <a:rPr b="0" lang="it-IT" sz="4000" spc="-1" strike="noStrike">
                <a:solidFill>
                  <a:srgbClr val="c5000b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2"/>
          <p:cNvSpPr/>
          <p:nvPr/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0120" indent="-33012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330120"/>
                <a:tab algn="l" pos="777960"/>
                <a:tab algn="l" pos="1227240"/>
                <a:tab algn="l" pos="1676520"/>
                <a:tab algn="l" pos="2125800"/>
                <a:tab algn="l" pos="2575080"/>
                <a:tab algn="l" pos="3024360"/>
                <a:tab algn="l" pos="3473280"/>
                <a:tab algn="l" pos="3922560"/>
                <a:tab algn="l" pos="4371840"/>
                <a:tab algn="l" pos="4821120"/>
                <a:tab algn="l" pos="5270400"/>
                <a:tab algn="l" pos="5719680"/>
                <a:tab algn="l" pos="6168960"/>
                <a:tab algn="l" pos="6618240"/>
                <a:tab algn="l" pos="7067520"/>
                <a:tab algn="l" pos="7516800"/>
                <a:tab algn="l" pos="7966080"/>
                <a:tab algn="l" pos="8415360"/>
                <a:tab algn="l" pos="8864640"/>
                <a:tab algn="l" pos="9313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l ricorso deve essere spedito o consegnato o notificato entro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60 giorni dalla data di notificazione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dell'atto impugnato (termine perentorio)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30120" indent="-33012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0120"/>
                <a:tab algn="l" pos="777960"/>
                <a:tab algn="l" pos="1227240"/>
                <a:tab algn="l" pos="1676520"/>
                <a:tab algn="l" pos="2125800"/>
                <a:tab algn="l" pos="2575080"/>
                <a:tab algn="l" pos="3024360"/>
                <a:tab algn="l" pos="3473280"/>
                <a:tab algn="l" pos="3922560"/>
                <a:tab algn="l" pos="4371840"/>
                <a:tab algn="l" pos="4821120"/>
                <a:tab algn="l" pos="5270400"/>
                <a:tab algn="l" pos="5719680"/>
                <a:tab algn="l" pos="6168960"/>
                <a:tab algn="l" pos="6618240"/>
                <a:tab algn="l" pos="7067520"/>
                <a:tab algn="l" pos="7516800"/>
                <a:tab algn="l" pos="7966080"/>
                <a:tab algn="l" pos="8415360"/>
                <a:tab algn="l" pos="8864640"/>
                <a:tab algn="l" pos="93139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30120" indent="-33012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0120"/>
                <a:tab algn="l" pos="777960"/>
                <a:tab algn="l" pos="1227240"/>
                <a:tab algn="l" pos="1676520"/>
                <a:tab algn="l" pos="2125800"/>
                <a:tab algn="l" pos="2575080"/>
                <a:tab algn="l" pos="3024360"/>
                <a:tab algn="l" pos="3473280"/>
                <a:tab algn="l" pos="3922560"/>
                <a:tab algn="l" pos="4371840"/>
                <a:tab algn="l" pos="4821120"/>
                <a:tab algn="l" pos="5270400"/>
                <a:tab algn="l" pos="5719680"/>
                <a:tab algn="l" pos="6168960"/>
                <a:tab algn="l" pos="6618240"/>
                <a:tab algn="l" pos="7067520"/>
                <a:tab algn="l" pos="7516800"/>
                <a:tab algn="l" pos="7966080"/>
                <a:tab algn="l" pos="8415360"/>
                <a:tab algn="l" pos="8864640"/>
                <a:tab algn="l" pos="93139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11120" y="2339640"/>
            <a:ext cx="8229600" cy="21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0120" indent="-330120" algn="just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330120"/>
                <a:tab algn="l" pos="4348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Nel caso che esso riguardi la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restituzione di tributi, sanzioni pecuniarie,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nteressi o altri accessori non dovut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4"/>
          <p:cNvSpPr/>
          <p:nvPr/>
        </p:nvSpPr>
        <p:spPr>
          <a:xfrm>
            <a:off x="5148360" y="3024360"/>
            <a:ext cx="1619280" cy="1079280"/>
          </a:xfrm>
          <a:prstGeom prst="line">
            <a:avLst/>
          </a:prstGeom>
          <a:ln w="468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AutoShape 5"/>
          <p:cNvSpPr/>
          <p:nvPr/>
        </p:nvSpPr>
        <p:spPr>
          <a:xfrm>
            <a:off x="755640" y="4292640"/>
            <a:ext cx="2700360" cy="2232000"/>
          </a:xfrm>
          <a:prstGeom prst="roundRect">
            <a:avLst>
              <a:gd name="adj" fmla="val 69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8" name="Text Box 6"/>
          <p:cNvSpPr/>
          <p:nvPr/>
        </p:nvSpPr>
        <p:spPr>
          <a:xfrm>
            <a:off x="900000" y="4392720"/>
            <a:ext cx="2340000" cy="25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 u="sng">
                <a:solidFill>
                  <a:srgbClr val="c5000b"/>
                </a:solidFill>
                <a:uFillTx/>
                <a:latin typeface="Arial"/>
              </a:rPr>
              <a:t>Presupposto del ricorso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è la previa istanza di restituzione inoltrata, all'Ufficio competente nei termini di decadenza (per i versamenti diretti entro 48 mesi)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9" name="AutoShape 7"/>
          <p:cNvSpPr/>
          <p:nvPr/>
        </p:nvSpPr>
        <p:spPr>
          <a:xfrm>
            <a:off x="5219640" y="4292640"/>
            <a:ext cx="2879640" cy="2232000"/>
          </a:xfrm>
          <a:prstGeom prst="roundRect">
            <a:avLst>
              <a:gd name="adj" fmla="val 69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Text Box 8"/>
          <p:cNvSpPr/>
          <p:nvPr/>
        </p:nvSpPr>
        <p:spPr>
          <a:xfrm>
            <a:off x="5400720" y="4392720"/>
            <a:ext cx="2700360" cy="19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c5000b"/>
                </a:solidFill>
                <a:latin typeface="Arial"/>
              </a:rPr>
              <a:t>I</a:t>
            </a:r>
            <a:r>
              <a:rPr b="0" lang="it-IT" sz="1600" spc="-1" strike="noStrike" u="sng">
                <a:solidFill>
                  <a:srgbClr val="c5000b"/>
                </a:solidFill>
                <a:uFillTx/>
                <a:latin typeface="Arial"/>
              </a:rPr>
              <a:t>l ricorso va proposto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entro 60 giorni dal rifiuto dell'Ufficio o decorsi 90 giorni (cioè dopo la formazione del cd.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silenzio-rifiuto)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ed entro il termine di prescrizione decennale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Oval 9"/>
          <p:cNvSpPr/>
          <p:nvPr/>
        </p:nvSpPr>
        <p:spPr>
          <a:xfrm>
            <a:off x="3114720" y="3294000"/>
            <a:ext cx="2282760" cy="927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it-IT" sz="1600" spc="-1" strike="noStrike">
                <a:solidFill>
                  <a:srgbClr val="000000"/>
                </a:solidFill>
                <a:latin typeface="Arial"/>
              </a:rPr>
              <a:t>RICHIESTA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it-IT" sz="1600" spc="-1" strike="noStrike">
                <a:solidFill>
                  <a:srgbClr val="000000"/>
                </a:solidFill>
                <a:latin typeface="Arial"/>
              </a:rPr>
              <a:t>DI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it-IT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it-IT" sz="1600" spc="-1" strike="noStrike">
                <a:solidFill>
                  <a:srgbClr val="000000"/>
                </a:solidFill>
                <a:latin typeface="Arial"/>
              </a:rPr>
              <a:t>RIMBORS</a:t>
            </a:r>
            <a:r>
              <a:rPr b="1" i="1" lang="it-IT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Line 10"/>
          <p:cNvSpPr/>
          <p:nvPr/>
        </p:nvSpPr>
        <p:spPr>
          <a:xfrm flipH="1">
            <a:off x="2031840" y="3036960"/>
            <a:ext cx="1283040" cy="1079280"/>
          </a:xfrm>
          <a:prstGeom prst="line">
            <a:avLst/>
          </a:prstGeom>
          <a:ln w="468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0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4000" spc="-1" strike="noStrike" u="sng">
                <a:solidFill>
                  <a:srgbClr val="c5000b"/>
                </a:solidFill>
                <a:uFillTx/>
                <a:latin typeface="Arial"/>
              </a:rPr>
              <a:t>TERMINI per la COSTITUZIONE in GIUDIZIO del RICORRENTE</a:t>
            </a:r>
            <a:r>
              <a:rPr b="0" lang="it-IT" sz="4000" spc="-1" strike="noStrike">
                <a:solidFill>
                  <a:srgbClr val="c5000b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60360" y="158220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0120" indent="-330120">
              <a:spcBef>
                <a:spcPts val="799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330120"/>
                <a:tab algn="l" pos="4348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l ricorrente si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costituisce in giudizio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depositando (o, con qualche rischio, anche spedendo), entro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30 giorni dalla proposizione del ricorso,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 pena di inammissibilità, presso la Segreteria della Commissione Tributaria adita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3"/>
          <p:cNvSpPr/>
          <p:nvPr/>
        </p:nvSpPr>
        <p:spPr>
          <a:xfrm>
            <a:off x="360360" y="3240000"/>
            <a:ext cx="3959280" cy="3419640"/>
          </a:xfrm>
          <a:prstGeom prst="roundRect">
            <a:avLst>
              <a:gd name="adj" fmla="val 46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Text Box 4"/>
          <p:cNvSpPr/>
          <p:nvPr/>
        </p:nvSpPr>
        <p:spPr>
          <a:xfrm>
            <a:off x="360360" y="3417840"/>
            <a:ext cx="3959280" cy="333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la copia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del ricorso, se la proposizione è avvenuta a mezzo posta o mediante consegna diretta; con la precisazione che tale copia (destinata alla Commissione) deve essere dichiarata conforme con quella spedita o consegnata alla controparte. La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dichiarazione di conformità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della copia depositata va apposta in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calce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alla copia del ricorso e sottoscritta dal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difensore incaricato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(o dal ricorrente, se si è difeso personalmente)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AutoShape 5"/>
          <p:cNvSpPr/>
          <p:nvPr/>
        </p:nvSpPr>
        <p:spPr>
          <a:xfrm>
            <a:off x="4680000" y="3240000"/>
            <a:ext cx="4140000" cy="3419640"/>
          </a:xfrm>
          <a:prstGeom prst="roundRect">
            <a:avLst>
              <a:gd name="adj" fmla="val 46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Text Box 6"/>
          <p:cNvSpPr/>
          <p:nvPr/>
        </p:nvSpPr>
        <p:spPr>
          <a:xfrm>
            <a:off x="4680000" y="4211640"/>
            <a:ext cx="3959280" cy="11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l’originale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del ricorso,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se la notificazione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della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copia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è avvenuta a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mezzo di Ufficiale </a:t>
            </a:r>
            <a:br>
              <a:rPr sz="1800"/>
            </a:b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giudiziario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AutoShape 7"/>
          <p:cNvSpPr/>
          <p:nvPr/>
        </p:nvSpPr>
        <p:spPr>
          <a:xfrm rot="3060000">
            <a:off x="3563280" y="2362680"/>
            <a:ext cx="336600" cy="966960"/>
          </a:xfrm>
          <a:prstGeom prst="downArrow">
            <a:avLst>
              <a:gd name="adj1" fmla="val 50000"/>
              <a:gd name="adj2" fmla="val 71818"/>
            </a:avLst>
          </a:prstGeom>
          <a:solidFill>
            <a:srgbClr val="3deb3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0" name="AutoShape 8"/>
          <p:cNvSpPr/>
          <p:nvPr/>
        </p:nvSpPr>
        <p:spPr>
          <a:xfrm rot="18180000">
            <a:off x="5005440" y="2291760"/>
            <a:ext cx="315720" cy="1131840"/>
          </a:xfrm>
          <a:prstGeom prst="downArrow">
            <a:avLst>
              <a:gd name="adj1" fmla="val 50000"/>
              <a:gd name="adj2" fmla="val 89624"/>
            </a:avLst>
          </a:prstGeom>
          <a:solidFill>
            <a:srgbClr val="3deb3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0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4000" spc="-1" strike="noStrike" u="sng">
                <a:solidFill>
                  <a:srgbClr val="c5000b"/>
                </a:solidFill>
                <a:uFillTx/>
                <a:latin typeface="Arial"/>
              </a:rPr>
              <a:t>DEPOSITO DEL FASCICOLO</a:t>
            </a:r>
            <a:r>
              <a:rPr b="0" lang="it-IT" sz="4000" spc="-1" strike="noStrike">
                <a:solidFill>
                  <a:srgbClr val="c5000b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2"/>
          <p:cNvSpPr/>
          <p:nvPr/>
        </p:nvSpPr>
        <p:spPr>
          <a:xfrm>
            <a:off x="539640" y="1268280"/>
            <a:ext cx="82296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0120" indent="-33012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0120"/>
                <a:tab algn="l" pos="777960"/>
                <a:tab algn="l" pos="1227240"/>
                <a:tab algn="l" pos="1676520"/>
                <a:tab algn="l" pos="2125800"/>
                <a:tab algn="l" pos="2575080"/>
                <a:tab algn="l" pos="3024360"/>
                <a:tab algn="l" pos="3473280"/>
                <a:tab algn="l" pos="3922560"/>
                <a:tab algn="l" pos="4371840"/>
                <a:tab algn="l" pos="4821120"/>
                <a:tab algn="l" pos="5270400"/>
                <a:tab algn="l" pos="5719680"/>
                <a:tab algn="l" pos="6168960"/>
                <a:tab algn="l" pos="6618240"/>
                <a:tab algn="l" pos="7067520"/>
                <a:tab algn="l" pos="7516800"/>
                <a:tab algn="l" pos="7966080"/>
                <a:tab algn="l" pos="8415360"/>
                <a:tab algn="l" pos="8864640"/>
                <a:tab algn="l" pos="9313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l cui frontespizio riporta la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Commissione adita,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 dati del ricorrente, del difensore incaricato, della controparte, l'oggetto della controversia e l'indice del contenuto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30120" indent="-3301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0120"/>
                <a:tab algn="l" pos="777960"/>
                <a:tab algn="l" pos="1227240"/>
                <a:tab algn="l" pos="1676520"/>
                <a:tab algn="l" pos="2125800"/>
                <a:tab algn="l" pos="2575080"/>
                <a:tab algn="l" pos="3024360"/>
                <a:tab algn="l" pos="3473280"/>
                <a:tab algn="l" pos="3922560"/>
                <a:tab algn="l" pos="4371840"/>
                <a:tab algn="l" pos="4821120"/>
                <a:tab algn="l" pos="5270400"/>
                <a:tab algn="l" pos="5719680"/>
                <a:tab algn="l" pos="6168960"/>
                <a:tab algn="l" pos="6618240"/>
                <a:tab algn="l" pos="7067520"/>
                <a:tab algn="l" pos="7516800"/>
                <a:tab algn="l" pos="7966080"/>
                <a:tab algn="l" pos="8415360"/>
                <a:tab algn="l" pos="8864640"/>
                <a:tab algn="l" pos="93139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Oval 3"/>
          <p:cNvSpPr/>
          <p:nvPr/>
        </p:nvSpPr>
        <p:spPr>
          <a:xfrm>
            <a:off x="179280" y="3240000"/>
            <a:ext cx="1979640" cy="16192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Oval 4"/>
          <p:cNvSpPr/>
          <p:nvPr/>
        </p:nvSpPr>
        <p:spPr>
          <a:xfrm>
            <a:off x="6588000" y="4653000"/>
            <a:ext cx="2087640" cy="17175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5" name="Oval 5"/>
          <p:cNvSpPr/>
          <p:nvPr/>
        </p:nvSpPr>
        <p:spPr>
          <a:xfrm>
            <a:off x="3887640" y="2924280"/>
            <a:ext cx="2700360" cy="2340000"/>
          </a:xfrm>
          <a:prstGeom prst="ellipse">
            <a:avLst/>
          </a:prstGeom>
          <a:solidFill>
            <a:srgbClr val="ffff99"/>
          </a:solidFill>
          <a:ln w="108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Oval 6"/>
          <p:cNvSpPr/>
          <p:nvPr/>
        </p:nvSpPr>
        <p:spPr>
          <a:xfrm>
            <a:off x="1979640" y="4680000"/>
            <a:ext cx="1979640" cy="16192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08000" y="3635280"/>
            <a:ext cx="2160360" cy="10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eventuali documenti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citati nel ricorso o comunque ritenuti utili)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4068720" y="3311640"/>
            <a:ext cx="238464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3. la copia della ricevuta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l ricorso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ilasciato dall'Ufficio destinatario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nel caso di consegna diretta)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o dall'Ufficio postale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nel caso di spedizione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a mezzo Racc. A.R.),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9" name="Text Box 9"/>
          <p:cNvSpPr/>
          <p:nvPr/>
        </p:nvSpPr>
        <p:spPr>
          <a:xfrm>
            <a:off x="2141640" y="5143680"/>
            <a:ext cx="1603440" cy="11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. L'originale o la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fotocopia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ll'atto 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impugnato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0" name="Text Box 11"/>
          <p:cNvSpPr/>
          <p:nvPr/>
        </p:nvSpPr>
        <p:spPr>
          <a:xfrm>
            <a:off x="6659640" y="5184720"/>
            <a:ext cx="2036520" cy="9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la prova dell'avvenuto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agamento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l Contributo unificato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tributario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1" name="AutoShape 18"/>
          <p:cNvSpPr/>
          <p:nvPr/>
        </p:nvSpPr>
        <p:spPr>
          <a:xfrm rot="17919600">
            <a:off x="2987640" y="3716280"/>
            <a:ext cx="976320" cy="97632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2" name="AutoShape 19"/>
          <p:cNvSpPr/>
          <p:nvPr/>
        </p:nvSpPr>
        <p:spPr>
          <a:xfrm flipV="1" rot="3247200">
            <a:off x="971640" y="4797360"/>
            <a:ext cx="936000" cy="107964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3" name="AutoShape 20"/>
          <p:cNvSpPr/>
          <p:nvPr/>
        </p:nvSpPr>
        <p:spPr>
          <a:xfrm flipH="1" rot="14514000">
            <a:off x="5702760" y="5033160"/>
            <a:ext cx="976320" cy="107928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4" name="AutoShape 21"/>
          <p:cNvSpPr/>
          <p:nvPr/>
        </p:nvSpPr>
        <p:spPr>
          <a:xfrm rot="19065000">
            <a:off x="7885080" y="3716280"/>
            <a:ext cx="976320" cy="115092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Text Box 22"/>
          <p:cNvSpPr/>
          <p:nvPr/>
        </p:nvSpPr>
        <p:spPr>
          <a:xfrm>
            <a:off x="549360" y="2300400"/>
            <a:ext cx="8415360" cy="9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l difensore del ricorrente (o, nei casi di difesa diretta, lo stesso ricorrente)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5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deve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depositare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o spedire in Segreteria, insieme con il ricorso, il proprio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5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fascicolo, comprendente: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4"/>
          <p:cNvSpPr/>
          <p:nvPr/>
        </p:nvSpPr>
        <p:spPr>
          <a:xfrm>
            <a:off x="1079640" y="179280"/>
            <a:ext cx="7226280" cy="7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4000" spc="-1" strike="noStrike" u="sng">
                <a:solidFill>
                  <a:srgbClr val="c5000b"/>
                </a:solidFill>
                <a:uFillTx/>
                <a:latin typeface="Arial"/>
              </a:rPr>
              <a:t>DEPOSITO DEL FASCICOLO</a:t>
            </a:r>
            <a:r>
              <a:rPr b="0" lang="it-IT" sz="4000" spc="-1" strike="noStrike">
                <a:solidFill>
                  <a:srgbClr val="c5000b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7" name="Oval 5"/>
          <p:cNvSpPr/>
          <p:nvPr/>
        </p:nvSpPr>
        <p:spPr>
          <a:xfrm>
            <a:off x="900000" y="1440000"/>
            <a:ext cx="3240360" cy="21603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8" name="Oval 6"/>
          <p:cNvSpPr/>
          <p:nvPr/>
        </p:nvSpPr>
        <p:spPr>
          <a:xfrm>
            <a:off x="4932360" y="2924280"/>
            <a:ext cx="3780000" cy="22906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9" name="Text Box 7"/>
          <p:cNvSpPr/>
          <p:nvPr/>
        </p:nvSpPr>
        <p:spPr>
          <a:xfrm>
            <a:off x="1274760" y="1979640"/>
            <a:ext cx="261000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lang="it-IT" sz="1400" spc="-1" strike="noStrike" u="sng">
                <a:solidFill>
                  <a:srgbClr val="000000"/>
                </a:solidFill>
                <a:uFillTx/>
                <a:latin typeface="Arial"/>
              </a:rPr>
              <a:t> Nel caso in cui ci si avvalga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 u="sng">
                <a:solidFill>
                  <a:srgbClr val="000000"/>
                </a:solidFill>
                <a:uFillTx/>
                <a:latin typeface="Arial"/>
              </a:rPr>
              <a:t>dell'Ufficiale giudiziario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la «relata» che attesta l'avvenuta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notificazione del ricorso,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Text Box 8"/>
          <p:cNvSpPr/>
          <p:nvPr/>
        </p:nvSpPr>
        <p:spPr>
          <a:xfrm>
            <a:off x="5094360" y="3392640"/>
            <a:ext cx="3510000" cy="11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inoltre il deposito della nota di iscrizione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a ruolo  (art. 22, comma 1, D.Lgs. 546/1992), </a:t>
            </a:r>
            <a:br>
              <a:rPr sz="1400"/>
            </a:b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in sostituzione della cd. «nota di deposito»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Line 9"/>
          <p:cNvSpPr/>
          <p:nvPr/>
        </p:nvSpPr>
        <p:spPr>
          <a:xfrm>
            <a:off x="2484360" y="2519280"/>
            <a:ext cx="18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2" name="AutoShape 10"/>
          <p:cNvSpPr/>
          <p:nvPr/>
        </p:nvSpPr>
        <p:spPr>
          <a:xfrm flipV="1" rot="3247200">
            <a:off x="3608280" y="3455280"/>
            <a:ext cx="1146240" cy="123516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3" name="AutoShape 11"/>
          <p:cNvSpPr/>
          <p:nvPr/>
        </p:nvSpPr>
        <p:spPr>
          <a:xfrm rot="19065000">
            <a:off x="241200" y="910800"/>
            <a:ext cx="976320" cy="112392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fill="hold">
                      <p:stCondLst>
                        <p:cond delay="0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95280" y="274680"/>
            <a:ext cx="8291520" cy="28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4000" spc="-1" strike="noStrike" u="sng">
                <a:solidFill>
                  <a:srgbClr val="c5000b"/>
                </a:solidFill>
                <a:uFillTx/>
                <a:latin typeface="Arial"/>
              </a:rPr>
              <a:t>DEPOSITO DOCUMENTI, MEMORIE ILLUSTRATIVE, ISTANZA PUBBLICA UDIENZA e BREVI REPLICHE</a:t>
            </a:r>
            <a:r>
              <a:rPr b="0" lang="it-IT" sz="4000" spc="-1" strike="noStrike">
                <a:solidFill>
                  <a:srgbClr val="c5000b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11120" y="3170160"/>
            <a:ext cx="822960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0120" indent="-330120">
              <a:spcBef>
                <a:spcPts val="799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330120"/>
                <a:tab algn="l" pos="4348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Le parti possono depositare presso la </a:t>
            </a: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Segreteria della Commissione Tributaria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in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originale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e in tante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copie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quante sono le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altre parti: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3"/>
          <p:cNvSpPr/>
          <p:nvPr/>
        </p:nvSpPr>
        <p:spPr>
          <a:xfrm flipH="1">
            <a:off x="2151000" y="3780000"/>
            <a:ext cx="1098720" cy="900000"/>
          </a:xfrm>
          <a:prstGeom prst="line">
            <a:avLst/>
          </a:prstGeom>
          <a:ln w="468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7" name="Line 4"/>
          <p:cNvSpPr/>
          <p:nvPr/>
        </p:nvSpPr>
        <p:spPr>
          <a:xfrm>
            <a:off x="4319640" y="3780000"/>
            <a:ext cx="1440" cy="1260360"/>
          </a:xfrm>
          <a:prstGeom prst="line">
            <a:avLst/>
          </a:prstGeom>
          <a:ln w="468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Line 5"/>
          <p:cNvSpPr/>
          <p:nvPr/>
        </p:nvSpPr>
        <p:spPr>
          <a:xfrm>
            <a:off x="5040360" y="3780000"/>
            <a:ext cx="1439640" cy="900000"/>
          </a:xfrm>
          <a:prstGeom prst="line">
            <a:avLst/>
          </a:prstGeom>
          <a:ln w="468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AutoShape 6"/>
          <p:cNvSpPr/>
          <p:nvPr/>
        </p:nvSpPr>
        <p:spPr>
          <a:xfrm>
            <a:off x="539640" y="5040360"/>
            <a:ext cx="2340000" cy="1619280"/>
          </a:xfrm>
          <a:prstGeom prst="roundRect">
            <a:avLst>
              <a:gd name="adj" fmla="val 9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0" name="Text Box 7"/>
          <p:cNvSpPr/>
          <p:nvPr/>
        </p:nvSpPr>
        <p:spPr>
          <a:xfrm>
            <a:off x="539640" y="5040360"/>
            <a:ext cx="2441520" cy="15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documenti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fino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20 «giorni liberi»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prima della data di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trattazione della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controversia in pubblica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udienza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1" name="AutoShape 8"/>
          <p:cNvSpPr/>
          <p:nvPr/>
        </p:nvSpPr>
        <p:spPr>
          <a:xfrm>
            <a:off x="3240000" y="5040360"/>
            <a:ext cx="2340000" cy="1619280"/>
          </a:xfrm>
          <a:prstGeom prst="roundRect">
            <a:avLst>
              <a:gd name="adj" fmla="val 9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Text Box 9"/>
          <p:cNvSpPr/>
          <p:nvPr/>
        </p:nvSpPr>
        <p:spPr>
          <a:xfrm>
            <a:off x="3168720" y="4824360"/>
            <a:ext cx="247176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memorie illustrative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fino a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10 «giorni liberi»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prima della data di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trattazione in pubblica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udienza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3" name="AutoShape 10"/>
          <p:cNvSpPr/>
          <p:nvPr/>
        </p:nvSpPr>
        <p:spPr>
          <a:xfrm>
            <a:off x="6119640" y="5040360"/>
            <a:ext cx="2519640" cy="1619280"/>
          </a:xfrm>
          <a:prstGeom prst="roundRect">
            <a:avLst>
              <a:gd name="adj" fmla="val 9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4" name="Text Box 11"/>
          <p:cNvSpPr/>
          <p:nvPr/>
        </p:nvSpPr>
        <p:spPr>
          <a:xfrm>
            <a:off x="6119640" y="5095800"/>
            <a:ext cx="2400480" cy="13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brevi repliche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fino a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5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«giorni liberi»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prima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della trattazione in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Camera di consiglio.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fill="hold">
                      <p:stCondLst>
                        <p:cond delay="0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4000" spc="-1" strike="noStrike" u="sng">
                <a:solidFill>
                  <a:srgbClr val="c5000b"/>
                </a:solidFill>
                <a:uFillTx/>
                <a:latin typeface="Arial"/>
              </a:rPr>
              <a:t>L'ISTANZA DI PUBBLICA UDIENZA</a:t>
            </a:r>
            <a:r>
              <a:rPr b="0" lang="it-IT" sz="4000" spc="-1" strike="noStrike" u="sng">
                <a:solidFill>
                  <a:srgbClr val="c5000b"/>
                </a:solidFill>
                <a:uFillTx/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2420640"/>
            <a:ext cx="822960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0120" indent="-33012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0120"/>
                <a:tab algn="l" pos="4348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va depositata entro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10 «giorni liberi»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prima della data per la trattazione;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nello stesso termine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va notificata alle altre parti costituite (Ufficio finanziario, Comune, </a:t>
            </a:r>
            <a:br>
              <a:rPr sz="3200"/>
            </a:b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Agente della riscossione, ecc.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0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411120" y="36000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0120" indent="-330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0120"/>
                <a:tab algn="l" pos="4348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600" spc="-1" strike="noStrike" u="sng">
                <a:solidFill>
                  <a:srgbClr val="c5000b"/>
                </a:solidFill>
                <a:uFillTx/>
                <a:latin typeface="Arial"/>
              </a:rPr>
              <a:t>DOCUMENTI NON CONOSCIUTI</a:t>
            </a:r>
            <a:r>
              <a:rPr b="1" lang="it-IT" sz="3600" spc="-1" strike="noStrike">
                <a:solidFill>
                  <a:srgbClr val="c5000b"/>
                </a:solidFill>
                <a:latin typeface="Arial"/>
              </a:rPr>
              <a:t>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0120" indent="0">
              <a:spcBef>
                <a:spcPts val="700"/>
              </a:spcBef>
              <a:buNone/>
              <a:tabLst>
                <a:tab algn="l" pos="0"/>
                <a:tab algn="l" pos="330120"/>
                <a:tab algn="l" pos="4348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0120" indent="0" algn="just">
              <a:spcBef>
                <a:spcPts val="700"/>
              </a:spcBef>
              <a:buNone/>
              <a:tabLst>
                <a:tab algn="l" pos="0"/>
                <a:tab algn="l" pos="330120"/>
                <a:tab algn="l" pos="4348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3"/>
          <p:cNvSpPr/>
          <p:nvPr/>
        </p:nvSpPr>
        <p:spPr>
          <a:xfrm>
            <a:off x="179280" y="1212840"/>
            <a:ext cx="8712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presentati dalla controparte o per ordine della Commissione: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è l'unico caso in cui è ammessa l'integrazione dei motivi esposti nel ricorso introduttivo; tale facoltà va esercitata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entro 60 giorni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da quando la parte ha avuto notizia del deposito di nuovi documenti, prima che sia stata fissata la trattazione o l'udienza (se già fissata si può chiedere il rinvio)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9" name="Text Box 4"/>
          <p:cNvSpPr/>
          <p:nvPr/>
        </p:nvSpPr>
        <p:spPr>
          <a:xfrm>
            <a:off x="254520" y="3500280"/>
            <a:ext cx="8731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3600" spc="-1" strike="noStrike">
                <a:solidFill>
                  <a:srgbClr val="c5000b"/>
                </a:solidFill>
                <a:latin typeface="Arial"/>
              </a:rPr>
              <a:t> </a:t>
            </a:r>
            <a:r>
              <a:rPr b="1" lang="it-IT" sz="3600" spc="-1" strike="noStrike" u="sng">
                <a:solidFill>
                  <a:srgbClr val="c5000b"/>
                </a:solidFill>
                <a:uFillTx/>
                <a:latin typeface="Arial"/>
              </a:rPr>
              <a:t>UDIENZA - AVVISO di TRATTAZIONE</a:t>
            </a:r>
            <a:r>
              <a:rPr b="1" lang="it-IT" sz="3600" spc="-1" strike="noStrike">
                <a:solidFill>
                  <a:srgbClr val="c5000b"/>
                </a:solidFill>
                <a:latin typeface="Arial"/>
              </a:rPr>
              <a:t>: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Text Box 5"/>
          <p:cNvSpPr/>
          <p:nvPr/>
        </p:nvSpPr>
        <p:spPr>
          <a:xfrm>
            <a:off x="324000" y="4824360"/>
            <a:ext cx="8675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la Segreteria della Commissione deve dare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comunicazione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- alle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parti in giudizio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della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data di trattazione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della controversia; tale comunicazione deve essere fatta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almeno 30 giorni liberi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prima della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data dell'udienza.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iming>
    <p:tnLst>
      <p:par>
        <p:cTn id="667" dur="indefinite" restart="never" nodeType="tmRoot">
          <p:childTnLst>
            <p:seq>
              <p:cTn id="668" dur="indefinite" nodeType="mainSeq">
                <p:childTnLst>
                  <p:par>
                    <p:cTn id="669" fill="hold">
                      <p:stCondLst>
                        <p:cond delay="0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ext Box 1"/>
          <p:cNvSpPr/>
          <p:nvPr/>
        </p:nvSpPr>
        <p:spPr>
          <a:xfrm>
            <a:off x="755640" y="1341360"/>
            <a:ext cx="753588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4000" spc="-1" strike="noStrike">
                <a:solidFill>
                  <a:srgbClr val="000000"/>
                </a:solidFill>
                <a:latin typeface="Arial"/>
              </a:rPr>
              <a:t>LE REGOLE per il COMPUTO dei TERMINI PROCESSUALI</a:t>
            </a:r>
            <a:br>
              <a:rPr sz="4400"/>
            </a:b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60000" y="2266560"/>
            <a:ext cx="8505720" cy="15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Per il computo dei termini valgono le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regole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contenute nell'art.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155 c.p.c.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integrate da quelle previste nell'art.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2963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c.c.: </a:t>
            </a:r>
            <a:br>
              <a:rPr sz="3200"/>
            </a:b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2"/>
          <p:cNvSpPr/>
          <p:nvPr/>
        </p:nvSpPr>
        <p:spPr>
          <a:xfrm>
            <a:off x="1800360" y="360360"/>
            <a:ext cx="5759280" cy="13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Text Box 3"/>
          <p:cNvSpPr/>
          <p:nvPr/>
        </p:nvSpPr>
        <p:spPr>
          <a:xfrm>
            <a:off x="1440000" y="693720"/>
            <a:ext cx="5986440" cy="7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4000" spc="-1" strike="noStrike" u="sng">
                <a:solidFill>
                  <a:srgbClr val="c5000b"/>
                </a:solidFill>
                <a:uFillTx/>
                <a:latin typeface="Arial"/>
              </a:rPr>
              <a:t>COMPUTO DEI TERMINI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" name="AutoShape 4"/>
          <p:cNvSpPr/>
          <p:nvPr/>
        </p:nvSpPr>
        <p:spPr>
          <a:xfrm>
            <a:off x="3851280" y="3357720"/>
            <a:ext cx="720720" cy="720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deb3d"/>
          </a:solidFill>
          <a:ln w="36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Text Box 6"/>
          <p:cNvSpPr/>
          <p:nvPr/>
        </p:nvSpPr>
        <p:spPr>
          <a:xfrm>
            <a:off x="518760" y="4486320"/>
            <a:ext cx="8506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nel conteggio dei termini a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giorni,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si esclude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il giorno iniziale </a:t>
            </a:r>
            <a:r>
              <a:rPr b="0" i="1" lang="it-IT" sz="3200" spc="-1" strike="noStrike">
                <a:solidFill>
                  <a:srgbClr val="000000"/>
                </a:solidFill>
                <a:latin typeface="Arial"/>
              </a:rPr>
              <a:t>(dies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it-IT" sz="3200" spc="-1" strike="noStrike">
                <a:solidFill>
                  <a:srgbClr val="000000"/>
                </a:solidFill>
                <a:latin typeface="Arial"/>
              </a:rPr>
              <a:t>quo)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e si comprende il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giorno finale </a:t>
            </a:r>
            <a:r>
              <a:rPr b="0" i="1" lang="it-IT" sz="3200" spc="-1" strike="noStrike">
                <a:solidFill>
                  <a:srgbClr val="000000"/>
                </a:solidFill>
                <a:latin typeface="Arial"/>
              </a:rPr>
              <a:t>(dies ad quem)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iming>
    <p:tnLst>
      <p:par>
        <p:cTn id="693" dur="indefinite" restart="never" nodeType="tmRoot">
          <p:childTnLst>
            <p:seq>
              <p:cTn id="694" dur="indefinite" nodeType="mainSeq">
                <p:childTnLst>
                  <p:par>
                    <p:cTn id="695" fill="hold">
                      <p:stCondLst>
                        <p:cond delay="0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70020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4000" spc="-1" strike="noStrike" u="sng">
                <a:solidFill>
                  <a:srgbClr val="cc3300"/>
                </a:solidFill>
                <a:uFillTx/>
                <a:latin typeface="Arial"/>
              </a:rPr>
              <a:t>LA COMMISSIONE </a:t>
            </a:r>
            <a:br>
              <a:rPr sz="4000"/>
            </a:br>
            <a:r>
              <a:rPr b="1" lang="it-IT" sz="4000" spc="-1" strike="noStrike" u="sng">
                <a:solidFill>
                  <a:srgbClr val="cc3300"/>
                </a:solidFill>
                <a:uFillTx/>
                <a:latin typeface="Arial"/>
              </a:rPr>
              <a:t>TRIBUTARIA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6"/>
          <p:cNvSpPr/>
          <p:nvPr/>
        </p:nvSpPr>
        <p:spPr>
          <a:xfrm>
            <a:off x="1332000" y="2709720"/>
            <a:ext cx="676908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è un organo della giurisdizione tributaria che ha la funzione di risolvere le controversie venutesi a creare tra i contribuenti e il fisco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9152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600" spc="-1" strike="noStrike" u="sng">
                <a:solidFill>
                  <a:srgbClr val="c5000b"/>
                </a:solidFill>
                <a:uFillTx/>
                <a:latin typeface="Arial"/>
              </a:rPr>
              <a:t>Ma se il termine viene a scadere in un giorno festivo o di sabato</a:t>
            </a:r>
            <a:r>
              <a:rPr b="0" lang="it-IT" sz="3600" spc="-1" strike="noStrike">
                <a:solidFill>
                  <a:srgbClr val="c5000b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AutoShape 2"/>
          <p:cNvSpPr/>
          <p:nvPr/>
        </p:nvSpPr>
        <p:spPr>
          <a:xfrm>
            <a:off x="324000" y="2349360"/>
            <a:ext cx="4140000" cy="2519640"/>
          </a:xfrm>
          <a:prstGeom prst="roundRect">
            <a:avLst>
              <a:gd name="adj" fmla="val 6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9" name="Text Box 3"/>
          <p:cNvSpPr/>
          <p:nvPr/>
        </p:nvSpPr>
        <p:spPr>
          <a:xfrm>
            <a:off x="331920" y="2382840"/>
            <a:ext cx="4530600" cy="25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In caso di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presentazione del ricorso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di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costituzione in giudizio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del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ricorrente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la scadenza del termine è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prorogata al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primo giorno successivo non festivo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0" name="AutoShape 4"/>
          <p:cNvSpPr/>
          <p:nvPr/>
        </p:nvSpPr>
        <p:spPr>
          <a:xfrm>
            <a:off x="2195640" y="3429000"/>
            <a:ext cx="360360" cy="7207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3deb3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1" name="AutoShape 5"/>
          <p:cNvSpPr/>
          <p:nvPr/>
        </p:nvSpPr>
        <p:spPr>
          <a:xfrm>
            <a:off x="4680000" y="2340000"/>
            <a:ext cx="4140000" cy="2519280"/>
          </a:xfrm>
          <a:prstGeom prst="roundRect">
            <a:avLst>
              <a:gd name="adj" fmla="val 6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Text Box 6"/>
          <p:cNvSpPr/>
          <p:nvPr/>
        </p:nvSpPr>
        <p:spPr>
          <a:xfrm>
            <a:off x="4675320" y="2627280"/>
            <a:ext cx="4203720" cy="20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 In caso di presentazione di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documenti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e memorie illustrative,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dato che il computo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del termine va fatto «a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ritroso»,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la scadenza del termine è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anticipata al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primo giorno precedente non festivo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3" name="AutoShape 7"/>
          <p:cNvSpPr/>
          <p:nvPr/>
        </p:nvSpPr>
        <p:spPr>
          <a:xfrm>
            <a:off x="6480000" y="3419640"/>
            <a:ext cx="360360" cy="7207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3deb3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iming>
    <p:tnLst>
      <p:par>
        <p:cTn id="717" dur="indefinite" restart="never" nodeType="tmRoot">
          <p:childTnLst>
            <p:seq>
              <p:cTn id="718" dur="indefinite" nodeType="mainSeq">
                <p:childTnLst>
                  <p:par>
                    <p:cTn id="719" fill="hold">
                      <p:stCondLst>
                        <p:cond delay="0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4400" spc="-1" strike="noStrike" u="sng">
                <a:solidFill>
                  <a:srgbClr val="c5000b"/>
                </a:solidFill>
                <a:uFillTx/>
                <a:latin typeface="Arial"/>
              </a:rPr>
              <a:t>GIORNI LIBERI</a:t>
            </a:r>
            <a:r>
              <a:rPr b="1" lang="it-IT" sz="4400" spc="-1" strike="noStrike">
                <a:solidFill>
                  <a:srgbClr val="c5000b"/>
                </a:solidFill>
                <a:latin typeface="Arial"/>
              </a:rPr>
              <a:t>:</a:t>
            </a:r>
            <a:r>
              <a:rPr b="0" lang="it-IT" sz="4400" spc="-1" strike="noStrike">
                <a:solidFill>
                  <a:srgbClr val="c5000b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4920" y="1600200"/>
            <a:ext cx="885816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-2638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Per il computo dei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«giorni liberi»,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a differenza dei termini normali, non va considerato né il giorno iniziale </a:t>
            </a: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(dies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quo),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né il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giorno finale </a:t>
            </a: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(dies ad quem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7"/>
          <p:cNvSpPr/>
          <p:nvPr/>
        </p:nvSpPr>
        <p:spPr>
          <a:xfrm>
            <a:off x="8082000" y="222408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7" name="Text Box 11"/>
          <p:cNvSpPr/>
          <p:nvPr/>
        </p:nvSpPr>
        <p:spPr>
          <a:xfrm>
            <a:off x="447840" y="2297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8" name="Text Box 13"/>
          <p:cNvSpPr/>
          <p:nvPr/>
        </p:nvSpPr>
        <p:spPr>
          <a:xfrm>
            <a:off x="84240" y="4130640"/>
            <a:ext cx="8880480" cy="13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e però il termine (iniziale o) finale cade in un giorno festivo               (sabato, domenica o festività riconosciute) allora si deve conteggiare un giorno (o due) in più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iming>
    <p:tnLst>
      <p:par>
        <p:cTn id="753" dur="indefinite" restart="never" nodeType="tmRoot">
          <p:childTnLst>
            <p:seq>
              <p:cTn id="754" dur="indefinite" nodeType="mainSeq">
                <p:childTnLst>
                  <p:par>
                    <p:cTn id="755" fill="hold">
                      <p:stCondLst>
                        <p:cond delay="0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1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4400" spc="-1" strike="noStrike" u="sng">
                <a:solidFill>
                  <a:srgbClr val="c5000b"/>
                </a:solidFill>
                <a:uFillTx/>
                <a:latin typeface="Arial"/>
              </a:rPr>
              <a:t>PERIODO FERIALE</a:t>
            </a:r>
            <a:r>
              <a:rPr b="1" lang="it-IT" sz="4400" spc="-1" strike="noStrike">
                <a:solidFill>
                  <a:srgbClr val="c5000b"/>
                </a:solidFill>
                <a:latin typeface="Arial"/>
              </a:rPr>
              <a:t>:</a:t>
            </a:r>
            <a:r>
              <a:rPr b="0" lang="it-IT" sz="4400" spc="-1" strike="noStrike">
                <a:solidFill>
                  <a:srgbClr val="c5000b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-360" y="2636640"/>
            <a:ext cx="8785080" cy="29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0120" indent="-33012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0120"/>
                <a:tab algn="l" pos="4348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Tutti i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termini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processuali subiscono una sospensione dal 1° al 31 Agosto di ogni ann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012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330120"/>
                <a:tab algn="l" pos="4348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012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30120"/>
                <a:tab algn="l" pos="4348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Ove il decorso abbia inizio durante il periodo di sospensione, l'inizio stesso è differito alla fine del detto periodo”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012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30120"/>
                <a:tab algn="l" pos="4348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012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30120"/>
                <a:tab algn="l" pos="4348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3" dur="indefinite" restart="never" nodeType="tmRoot">
          <p:childTnLst>
            <p:seq>
              <p:cTn id="774" dur="indefinite" nodeType="mainSeq">
                <p:childTnLst>
                  <p:par>
                    <p:cTn id="775" fill="hold">
                      <p:stCondLst>
                        <p:cond delay="0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1" dur="5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2" dur="5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7" dur="500" fill="hold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8" dur="500" fill="hold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9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4000" spc="-1" strike="noStrike">
                <a:solidFill>
                  <a:srgbClr val="000000"/>
                </a:solidFill>
                <a:latin typeface="Arial"/>
              </a:rPr>
              <a:t>CALCOLO DEI GIORNI,</a:t>
            </a:r>
            <a:br>
              <a:rPr sz="4000"/>
            </a:br>
            <a:r>
              <a:rPr b="1" lang="it-IT" sz="4000" spc="-1" strike="noStrike">
                <a:solidFill>
                  <a:srgbClr val="000000"/>
                </a:solidFill>
                <a:latin typeface="Arial"/>
              </a:rPr>
              <a:t>IN PARTICOLAR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a) </a:t>
            </a:r>
            <a:r>
              <a:rPr b="1" lang="it-IT" sz="4000" spc="-1" strike="noStrike" u="sng">
                <a:solidFill>
                  <a:srgbClr val="c5000b"/>
                </a:solidFill>
                <a:uFillTx/>
                <a:latin typeface="Arial"/>
              </a:rPr>
              <a:t>PROPOSIZIONE del RICORSO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6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AutoShape 3"/>
          <p:cNvSpPr/>
          <p:nvPr/>
        </p:nvSpPr>
        <p:spPr>
          <a:xfrm>
            <a:off x="720720" y="1619280"/>
            <a:ext cx="2519280" cy="1809720"/>
          </a:xfrm>
          <a:prstGeom prst="roundRect">
            <a:avLst>
              <a:gd name="adj" fmla="val 9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Text Box 4"/>
          <p:cNvSpPr/>
          <p:nvPr/>
        </p:nvSpPr>
        <p:spPr>
          <a:xfrm>
            <a:off x="720720" y="1735200"/>
            <a:ext cx="23400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Se l'ultimo giorno utile per proporre il ricorso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(60° giorno)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cade nel periodo feriale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(1.8 – 31.8):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6" name="Line 5"/>
          <p:cNvSpPr/>
          <p:nvPr/>
        </p:nvSpPr>
        <p:spPr>
          <a:xfrm>
            <a:off x="3419640" y="2421000"/>
            <a:ext cx="2160360" cy="1440"/>
          </a:xfrm>
          <a:prstGeom prst="line">
            <a:avLst/>
          </a:prstGeom>
          <a:ln w="468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7" name="AutoShape 6"/>
          <p:cNvSpPr/>
          <p:nvPr/>
        </p:nvSpPr>
        <p:spPr>
          <a:xfrm>
            <a:off x="5759280" y="1620720"/>
            <a:ext cx="2484720" cy="1737000"/>
          </a:xfrm>
          <a:prstGeom prst="roundRect">
            <a:avLst>
              <a:gd name="adj" fmla="val 9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8" name="Text Box 7"/>
          <p:cNvSpPr/>
          <p:nvPr/>
        </p:nvSpPr>
        <p:spPr>
          <a:xfrm>
            <a:off x="5759280" y="1619280"/>
            <a:ext cx="2340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9" name="AutoShape 8"/>
          <p:cNvSpPr/>
          <p:nvPr/>
        </p:nvSpPr>
        <p:spPr>
          <a:xfrm>
            <a:off x="720720" y="3780000"/>
            <a:ext cx="2519280" cy="1809720"/>
          </a:xfrm>
          <a:prstGeom prst="roundRect">
            <a:avLst>
              <a:gd name="adj" fmla="val 9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Text Box 9"/>
          <p:cNvSpPr/>
          <p:nvPr/>
        </p:nvSpPr>
        <p:spPr>
          <a:xfrm>
            <a:off x="684360" y="3789360"/>
            <a:ext cx="2519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Se il primo giorno utile per proporre il ricorso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(cioè il giorno successivo alla notifica dell'atto </a:t>
            </a:r>
            <a:br>
              <a:rPr sz="1600"/>
            </a:b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impugnato) cade nel periodo feriale (1.8 - 31.8)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AutoShape 10"/>
          <p:cNvSpPr/>
          <p:nvPr/>
        </p:nvSpPr>
        <p:spPr>
          <a:xfrm>
            <a:off x="5796000" y="3780000"/>
            <a:ext cx="2519280" cy="1809720"/>
          </a:xfrm>
          <a:prstGeom prst="roundRect">
            <a:avLst>
              <a:gd name="adj" fmla="val 9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2" name="Text Box 11"/>
          <p:cNvSpPr/>
          <p:nvPr/>
        </p:nvSpPr>
        <p:spPr>
          <a:xfrm>
            <a:off x="5724360" y="4032360"/>
            <a:ext cx="2340000" cy="10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il computo dei 60 gg. utili per la proposizione </a:t>
            </a:r>
            <a:br>
              <a:rPr sz="1600"/>
            </a:b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de ricorso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inizierà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con l’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1.9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compreso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3" name="Line 12"/>
          <p:cNvSpPr/>
          <p:nvPr/>
        </p:nvSpPr>
        <p:spPr>
          <a:xfrm>
            <a:off x="3348000" y="4651200"/>
            <a:ext cx="2160720" cy="1800"/>
          </a:xfrm>
          <a:prstGeom prst="line">
            <a:avLst/>
          </a:prstGeom>
          <a:ln w="468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Text Box 13"/>
          <p:cNvSpPr/>
          <p:nvPr/>
        </p:nvSpPr>
        <p:spPr>
          <a:xfrm>
            <a:off x="5761080" y="1700280"/>
            <a:ext cx="2340000" cy="15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956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78760"/>
                <a:tab algn="l" pos="9428040"/>
                <a:tab algn="l" pos="9877320"/>
                <a:tab algn="l" pos="10326600"/>
                <a:tab algn="l" pos="10779120"/>
                <a:tab algn="l" pos="10780560"/>
                <a:tab algn="l" pos="1078236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ai fini del computo del 60 gg., si somma il periodo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utilmente decorso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prima dell' 1.8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con quello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successivo al 31.8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iming>
    <p:tnLst>
      <p:par>
        <p:cTn id="799" dur="indefinite" restart="never" nodeType="tmRoot">
          <p:childTnLst>
            <p:seq>
              <p:cTn id="800" dur="indefinite" nodeType="mainSeq">
                <p:childTnLst>
                  <p:par>
                    <p:cTn id="801" fill="hold">
                      <p:stCondLst>
                        <p:cond delay="0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9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0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3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4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9152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b) </a:t>
            </a:r>
            <a:r>
              <a:rPr b="1" lang="it-IT" sz="4000" spc="-1" strike="noStrike" u="sng">
                <a:solidFill>
                  <a:srgbClr val="c5000b"/>
                </a:solidFill>
                <a:uFillTx/>
                <a:latin typeface="Arial"/>
              </a:rPr>
              <a:t>COSTITUZIONE in GIUDIZIO del RICORREN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2"/>
          <p:cNvSpPr/>
          <p:nvPr/>
        </p:nvSpPr>
        <p:spPr>
          <a:xfrm>
            <a:off x="898560" y="1981080"/>
            <a:ext cx="3060720" cy="1619280"/>
          </a:xfrm>
          <a:prstGeom prst="roundRect">
            <a:avLst>
              <a:gd name="adj" fmla="val 9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7" name="AutoShape 3"/>
          <p:cNvSpPr/>
          <p:nvPr/>
        </p:nvSpPr>
        <p:spPr>
          <a:xfrm>
            <a:off x="5398920" y="1979640"/>
            <a:ext cx="3060720" cy="1619280"/>
          </a:xfrm>
          <a:prstGeom prst="roundRect">
            <a:avLst>
              <a:gd name="adj" fmla="val 9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AutoShape 4"/>
          <p:cNvSpPr/>
          <p:nvPr/>
        </p:nvSpPr>
        <p:spPr>
          <a:xfrm>
            <a:off x="900000" y="3959280"/>
            <a:ext cx="3060720" cy="1619280"/>
          </a:xfrm>
          <a:prstGeom prst="roundRect">
            <a:avLst>
              <a:gd name="adj" fmla="val 9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AutoShape 5"/>
          <p:cNvSpPr/>
          <p:nvPr/>
        </p:nvSpPr>
        <p:spPr>
          <a:xfrm>
            <a:off x="5400720" y="3959280"/>
            <a:ext cx="3060720" cy="1619280"/>
          </a:xfrm>
          <a:prstGeom prst="roundRect">
            <a:avLst>
              <a:gd name="adj" fmla="val 9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0" name="Text Box 6"/>
          <p:cNvSpPr/>
          <p:nvPr/>
        </p:nvSpPr>
        <p:spPr>
          <a:xfrm>
            <a:off x="900000" y="2124000"/>
            <a:ext cx="306072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Se l'ultimo giorno utile per costituirsi in giudizio (30° giorno)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cade nel periodo feriale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(1.8 - 31.8) ai fini del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compimento dei 30 giorni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1" name="Text Box 7"/>
          <p:cNvSpPr/>
          <p:nvPr/>
        </p:nvSpPr>
        <p:spPr>
          <a:xfrm>
            <a:off x="5472000" y="1979640"/>
            <a:ext cx="2880000" cy="10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Si somma il periodo utilmente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decorso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prima dell'1.8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con quello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successivo al 1.9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900000" y="4103640"/>
            <a:ext cx="306072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Se il primo giorno utile per costituirsi in giudizio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(cioè il giorno successivo alla proposizione del ricorso)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cade nel periodo feriale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(1.8 - 31.8)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3" name="Text Box 9"/>
          <p:cNvSpPr/>
          <p:nvPr/>
        </p:nvSpPr>
        <p:spPr>
          <a:xfrm>
            <a:off x="5508720" y="4140360"/>
            <a:ext cx="2700360" cy="15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Il computo dei 30 gg. utili per la costituzione in giudizio del ricorrente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inizierà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con il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1.9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(da computare)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4" name="Line 10"/>
          <p:cNvSpPr/>
          <p:nvPr/>
        </p:nvSpPr>
        <p:spPr>
          <a:xfrm>
            <a:off x="4068720" y="2771640"/>
            <a:ext cx="1260360" cy="1800"/>
          </a:xfrm>
          <a:prstGeom prst="line">
            <a:avLst/>
          </a:prstGeom>
          <a:ln w="468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Line 11"/>
          <p:cNvSpPr/>
          <p:nvPr/>
        </p:nvSpPr>
        <p:spPr>
          <a:xfrm>
            <a:off x="4068720" y="4680000"/>
            <a:ext cx="1260360" cy="1440"/>
          </a:xfrm>
          <a:prstGeom prst="line">
            <a:avLst/>
          </a:prstGeom>
          <a:ln w="468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iming>
    <p:tnLst>
      <p:par>
        <p:cTn id="855" dur="indefinite" restart="never" nodeType="tmRoot">
          <p:childTnLst>
            <p:seq>
              <p:cTn id="856" dur="indefinite" nodeType="mainSeq">
                <p:childTnLst>
                  <p:par>
                    <p:cTn id="857" fill="hold">
                      <p:stCondLst>
                        <p:cond delay="0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7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8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1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7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1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2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1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23640" y="1125000"/>
            <a:ext cx="821844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c)  </a:t>
            </a:r>
            <a:r>
              <a:rPr b="1" lang="it-IT" sz="4000" spc="-1" strike="noStrike" u="sng">
                <a:solidFill>
                  <a:srgbClr val="c5000b"/>
                </a:solidFill>
                <a:uFillTx/>
                <a:latin typeface="Arial"/>
              </a:rPr>
              <a:t>DEPOSITO di DOCUMENTI e   MEMORIE ILLUSTRATIVE</a:t>
            </a:r>
            <a:r>
              <a:rPr b="1" lang="it-IT" sz="4000" spc="-1" strike="noStrike">
                <a:solidFill>
                  <a:srgbClr val="c5000b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94920" y="3284640"/>
            <a:ext cx="821844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96880" indent="-596880"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96880"/>
                <a:tab algn="l" pos="701640"/>
                <a:tab algn="l" pos="1150920"/>
                <a:tab algn="l" pos="1600200"/>
                <a:tab algn="l" pos="2049480"/>
                <a:tab algn="l" pos="2498760"/>
                <a:tab algn="l" pos="2948040"/>
                <a:tab algn="l" pos="3397320"/>
                <a:tab algn="l" pos="3846600"/>
                <a:tab algn="l" pos="4295880"/>
                <a:tab algn="l" pos="4745160"/>
                <a:tab algn="l" pos="5194440"/>
                <a:tab algn="l" pos="5643720"/>
                <a:tab algn="l" pos="6093000"/>
                <a:tab algn="l" pos="6541920"/>
                <a:tab algn="l" pos="6991200"/>
                <a:tab algn="l" pos="7440480"/>
                <a:tab algn="l" pos="7889760"/>
                <a:tab algn="l" pos="8339040"/>
                <a:tab algn="l" pos="8788320"/>
                <a:tab algn="l" pos="9237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Anche in questo caso, pur dovendo effettuare il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computo a ritroso dei giorni liberi,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occorre tener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presente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ia il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periodo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he il giorno festivo (cui viene equiparato il sabato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6880" indent="0" algn="just">
              <a:spcBef>
                <a:spcPts val="601"/>
              </a:spcBef>
              <a:buNone/>
              <a:tabLst>
                <a:tab algn="l" pos="0"/>
                <a:tab algn="l" pos="596880"/>
                <a:tab algn="l" pos="701640"/>
                <a:tab algn="l" pos="1150920"/>
                <a:tab algn="l" pos="1600200"/>
                <a:tab algn="l" pos="2049480"/>
                <a:tab algn="l" pos="2498760"/>
                <a:tab algn="l" pos="2948040"/>
                <a:tab algn="l" pos="3397320"/>
                <a:tab algn="l" pos="3846600"/>
                <a:tab algn="l" pos="4295880"/>
                <a:tab algn="l" pos="4745160"/>
                <a:tab algn="l" pos="5194440"/>
                <a:tab algn="l" pos="5643720"/>
                <a:tab algn="l" pos="6093000"/>
                <a:tab algn="l" pos="6541920"/>
                <a:tab algn="l" pos="6991200"/>
                <a:tab algn="l" pos="7440480"/>
                <a:tab algn="l" pos="7889760"/>
                <a:tab algn="l" pos="8339040"/>
                <a:tab algn="l" pos="8788320"/>
                <a:tab algn="l" pos="92376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6880" indent="0" algn="just">
              <a:spcBef>
                <a:spcPts val="601"/>
              </a:spcBef>
              <a:buNone/>
              <a:tabLst>
                <a:tab algn="l" pos="0"/>
                <a:tab algn="l" pos="596880"/>
                <a:tab algn="l" pos="701640"/>
                <a:tab algn="l" pos="1150920"/>
                <a:tab algn="l" pos="1600200"/>
                <a:tab algn="l" pos="2049480"/>
                <a:tab algn="l" pos="2498760"/>
                <a:tab algn="l" pos="2948040"/>
                <a:tab algn="l" pos="3397320"/>
                <a:tab algn="l" pos="3846600"/>
                <a:tab algn="l" pos="4295880"/>
                <a:tab algn="l" pos="4745160"/>
                <a:tab algn="l" pos="5194440"/>
                <a:tab algn="l" pos="5643720"/>
                <a:tab algn="l" pos="6093000"/>
                <a:tab algn="l" pos="6541920"/>
                <a:tab algn="l" pos="6991200"/>
                <a:tab algn="l" pos="7440480"/>
                <a:tab algn="l" pos="7889760"/>
                <a:tab algn="l" pos="8339040"/>
                <a:tab algn="l" pos="8788320"/>
                <a:tab algn="l" pos="9237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it-IT" sz="36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11" dur="indefinite" restart="never" nodeType="tmRoot">
          <p:childTnLst>
            <p:seq>
              <p:cTn id="912" dur="indefinite" nodeType="mainSeq">
                <p:childTnLst>
                  <p:par>
                    <p:cTn id="913" fill="hold">
                      <p:stCondLst>
                        <p:cond delay="0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d)</a:t>
            </a:r>
            <a:r>
              <a:rPr b="1" lang="it-IT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4000" spc="-1" strike="noStrike" u="sng">
                <a:solidFill>
                  <a:srgbClr val="c5000b"/>
                </a:solidFill>
                <a:uFillTx/>
                <a:latin typeface="Arial"/>
              </a:rPr>
              <a:t>UDIENZA - AVVISO di TRATTAZIONE</a:t>
            </a:r>
            <a:r>
              <a:rPr b="1" lang="it-IT" sz="4000" spc="-1" strike="noStrike">
                <a:solidFill>
                  <a:srgbClr val="c5000b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96880" indent="-5968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96880"/>
                <a:tab algn="l" pos="701640"/>
                <a:tab algn="l" pos="1150920"/>
                <a:tab algn="l" pos="1600200"/>
                <a:tab algn="l" pos="2049480"/>
                <a:tab algn="l" pos="2498760"/>
                <a:tab algn="l" pos="2948040"/>
                <a:tab algn="l" pos="3397320"/>
                <a:tab algn="l" pos="3846600"/>
                <a:tab algn="l" pos="4295880"/>
                <a:tab algn="l" pos="4745160"/>
                <a:tab algn="l" pos="5194440"/>
                <a:tab algn="l" pos="5643720"/>
                <a:tab algn="l" pos="6093000"/>
                <a:tab algn="l" pos="6541920"/>
                <a:tab algn="l" pos="6991200"/>
                <a:tab algn="l" pos="7440480"/>
                <a:tab algn="l" pos="7889760"/>
                <a:tab algn="l" pos="8339040"/>
                <a:tab algn="l" pos="8788320"/>
                <a:tab algn="l" pos="9237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ra la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ricezione della comunicazione e l'udienza di trattazione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devono intercorrere almeno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30 giorni «liberi»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(tenendo conto anche della sospensione dei termini processuali nel periodo </a:t>
            </a: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eriale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68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596880"/>
                <a:tab algn="l" pos="701640"/>
                <a:tab algn="l" pos="1150920"/>
                <a:tab algn="l" pos="1600200"/>
                <a:tab algn="l" pos="2049480"/>
                <a:tab algn="l" pos="2498760"/>
                <a:tab algn="l" pos="2948040"/>
                <a:tab algn="l" pos="3397320"/>
                <a:tab algn="l" pos="3846600"/>
                <a:tab algn="l" pos="4295880"/>
                <a:tab algn="l" pos="4745160"/>
                <a:tab algn="l" pos="5194440"/>
                <a:tab algn="l" pos="5643720"/>
                <a:tab algn="l" pos="6093000"/>
                <a:tab algn="l" pos="6541920"/>
                <a:tab algn="l" pos="6991200"/>
                <a:tab algn="l" pos="7440480"/>
                <a:tab algn="l" pos="7889760"/>
                <a:tab algn="l" pos="8339040"/>
                <a:tab algn="l" pos="8788320"/>
                <a:tab algn="l" pos="92376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68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596880"/>
                <a:tab algn="l" pos="701640"/>
                <a:tab algn="l" pos="1150920"/>
                <a:tab algn="l" pos="1600200"/>
                <a:tab algn="l" pos="2049480"/>
                <a:tab algn="l" pos="2498760"/>
                <a:tab algn="l" pos="2948040"/>
                <a:tab algn="l" pos="3397320"/>
                <a:tab algn="l" pos="3846600"/>
                <a:tab algn="l" pos="4295880"/>
                <a:tab algn="l" pos="4745160"/>
                <a:tab algn="l" pos="5194440"/>
                <a:tab algn="l" pos="5643720"/>
                <a:tab algn="l" pos="6093000"/>
                <a:tab algn="l" pos="6541920"/>
                <a:tab algn="l" pos="6991200"/>
                <a:tab algn="l" pos="7440480"/>
                <a:tab algn="l" pos="7889760"/>
                <a:tab algn="l" pos="8339040"/>
                <a:tab algn="l" pos="8788320"/>
                <a:tab algn="l" pos="9237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it-IT" sz="10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9"/>
          <p:cNvSpPr/>
          <p:nvPr/>
        </p:nvSpPr>
        <p:spPr>
          <a:xfrm>
            <a:off x="924120" y="4632480"/>
            <a:ext cx="7002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Anche in questo caso si deve tener conto del periodo feriale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iming>
    <p:tnLst>
      <p:par>
        <p:cTn id="931" dur="indefinite" restart="never" nodeType="tmRoot">
          <p:childTnLst>
            <p:seq>
              <p:cTn id="932" dur="indefinite" nodeType="mainSeq">
                <p:childTnLst>
                  <p:par>
                    <p:cTn id="933" fill="hold">
                      <p:stCondLst>
                        <p:cond delay="0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7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3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4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9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0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e) </a:t>
            </a:r>
            <a:r>
              <a:rPr b="1" lang="it-IT" sz="4000" spc="-1" strike="noStrike" u="sng">
                <a:solidFill>
                  <a:srgbClr val="c5000b"/>
                </a:solidFill>
                <a:uFillTx/>
                <a:latin typeface="Arial"/>
              </a:rPr>
              <a:t>ACCERTAMENTO con ADESIO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5000"/>
          </a:bodyPr>
          <a:p>
            <a:pPr marL="387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598320"/>
                <a:tab algn="l" pos="703440"/>
                <a:tab algn="l" pos="1152360"/>
                <a:tab algn="l" pos="1601640"/>
                <a:tab algn="l" pos="2050920"/>
                <a:tab algn="l" pos="2500200"/>
                <a:tab algn="l" pos="2949480"/>
                <a:tab algn="l" pos="3398760"/>
                <a:tab algn="l" pos="3848040"/>
                <a:tab algn="l" pos="4297320"/>
                <a:tab algn="l" pos="4746600"/>
                <a:tab algn="l" pos="5195880"/>
                <a:tab algn="l" pos="5645160"/>
                <a:tab algn="l" pos="6094440"/>
                <a:tab algn="l" pos="6543720"/>
                <a:tab algn="l" pos="6993000"/>
                <a:tab algn="l" pos="7442280"/>
                <a:tab algn="l" pos="7891560"/>
                <a:tab algn="l" pos="8340840"/>
                <a:tab algn="l" pos="8790120"/>
                <a:tab algn="l" pos="92394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7720" indent="-38772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98320"/>
                <a:tab algn="l" pos="703440"/>
                <a:tab algn="l" pos="1152360"/>
                <a:tab algn="l" pos="1601640"/>
                <a:tab algn="l" pos="2050920"/>
                <a:tab algn="l" pos="2500200"/>
                <a:tab algn="l" pos="2949480"/>
                <a:tab algn="l" pos="3398760"/>
                <a:tab algn="l" pos="3848040"/>
                <a:tab algn="l" pos="4297320"/>
                <a:tab algn="l" pos="4746600"/>
                <a:tab algn="l" pos="5195880"/>
                <a:tab algn="l" pos="5645160"/>
                <a:tab algn="l" pos="6094440"/>
                <a:tab algn="l" pos="6543720"/>
                <a:tab algn="l" pos="6993000"/>
                <a:tab algn="l" pos="7442280"/>
                <a:tab algn="l" pos="7891560"/>
                <a:tab algn="l" pos="8340840"/>
                <a:tab algn="l" pos="8790120"/>
                <a:tab algn="l" pos="9239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nche in questo caso vale il periodo di </a:t>
            </a:r>
            <a:r>
              <a:rPr b="1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sospensione feria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772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598320"/>
                <a:tab algn="l" pos="703440"/>
                <a:tab algn="l" pos="1152360"/>
                <a:tab algn="l" pos="1601640"/>
                <a:tab algn="l" pos="2050920"/>
                <a:tab algn="l" pos="2500200"/>
                <a:tab algn="l" pos="2949480"/>
                <a:tab algn="l" pos="3398760"/>
                <a:tab algn="l" pos="3848040"/>
                <a:tab algn="l" pos="4297320"/>
                <a:tab algn="l" pos="4746600"/>
                <a:tab algn="l" pos="5195880"/>
                <a:tab algn="l" pos="5645160"/>
                <a:tab algn="l" pos="6094440"/>
                <a:tab algn="l" pos="6543720"/>
                <a:tab algn="l" pos="6993000"/>
                <a:tab algn="l" pos="7442280"/>
                <a:tab algn="l" pos="7891560"/>
                <a:tab algn="l" pos="8340840"/>
                <a:tab algn="l" pos="8790120"/>
                <a:tab algn="l" pos="92394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772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598320"/>
                <a:tab algn="l" pos="703440"/>
                <a:tab algn="l" pos="1152360"/>
                <a:tab algn="l" pos="1601640"/>
                <a:tab algn="l" pos="2050920"/>
                <a:tab algn="l" pos="2500200"/>
                <a:tab algn="l" pos="2949480"/>
                <a:tab algn="l" pos="3398760"/>
                <a:tab algn="l" pos="3848040"/>
                <a:tab algn="l" pos="4297320"/>
                <a:tab algn="l" pos="4746600"/>
                <a:tab algn="l" pos="5195880"/>
                <a:tab algn="l" pos="5645160"/>
                <a:tab algn="l" pos="6094440"/>
                <a:tab algn="l" pos="6543720"/>
                <a:tab algn="l" pos="6993000"/>
                <a:tab algn="l" pos="7442280"/>
                <a:tab algn="l" pos="7891560"/>
                <a:tab algn="l" pos="8340840"/>
                <a:tab algn="l" pos="8790120"/>
                <a:tab algn="l" pos="9239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4"/>
          <p:cNvSpPr/>
          <p:nvPr/>
        </p:nvSpPr>
        <p:spPr>
          <a:xfrm>
            <a:off x="949320" y="2511360"/>
            <a:ext cx="8086680" cy="11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 90 giorni decorrono dal giorno in cui è stata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depositata l'istanza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resso l'ufficio e possono sommarsi con i giorni di sospensione dovuti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l periodo feriale (cfr. C.M. 8.8.1997, n. 235/E, nonché C.M. 17.6.1999, n. 133/E)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Text Box 5"/>
          <p:cNvSpPr/>
          <p:nvPr/>
        </p:nvSpPr>
        <p:spPr>
          <a:xfrm>
            <a:off x="946800" y="3933720"/>
            <a:ext cx="8317440" cy="156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Non vale, invece, il periodo feriale per le &lt;&lt;</a:t>
            </a:r>
            <a:r>
              <a:rPr b="1" lang="it-IT" sz="2000" spc="-1" strike="noStrike">
                <a:solidFill>
                  <a:srgbClr val="c5000b"/>
                </a:solidFill>
                <a:latin typeface="Arial"/>
              </a:rPr>
              <a:t>osservazioni e richieste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&gt;&gt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he il contribuente ha facoltà di presentare ex art.12 della L. 212/2000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(sullo Statuto dei diritti del contribuente) nei sessanta giorni successivi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lla data di consegna del PVC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iming>
    <p:tnLst>
      <p:par>
        <p:cTn id="951" dur="indefinite" restart="never" nodeType="tmRoot">
          <p:childTnLst>
            <p:seq>
              <p:cTn id="952" dur="indefinite" nodeType="mainSeq">
                <p:childTnLst>
                  <p:par>
                    <p:cTn id="953" fill="hold">
                      <p:stCondLst>
                        <p:cond delay="0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3" dur="5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4" dur="5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9" dur="500" fill="hold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0" dur="500" fill="hold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5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6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7" fill="hold">
                      <p:stCondLst>
                        <p:cond delay="indefinite"/>
                      </p:stCondLst>
                      <p:childTnLst>
                        <p:par>
                          <p:cTn id="978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2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8000" y="44280"/>
            <a:ext cx="8217000" cy="9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3200" spc="-1" strike="noStrike" u="sng">
                <a:solidFill>
                  <a:srgbClr val="cc3300"/>
                </a:solidFill>
                <a:uFillTx/>
                <a:latin typeface="Arial"/>
              </a:rPr>
              <a:t>FAC-SIMILE RICORSO CON ISTANZ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10" descr="1"/>
          <p:cNvPicPr/>
          <p:nvPr/>
        </p:nvPicPr>
        <p:blipFill>
          <a:blip r:embed="rId1"/>
          <a:stretch/>
        </p:blipFill>
        <p:spPr>
          <a:xfrm>
            <a:off x="1835280" y="836640"/>
            <a:ext cx="5545080" cy="58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3" dur="indefinite" restart="never" nodeType="tmRoot">
          <p:childTnLst>
            <p:seq>
              <p:cTn id="984" dur="indefinite" nodeType="mainSeq">
                <p:childTnLst>
                  <p:par>
                    <p:cTn id="985" fill="hold">
                      <p:stCondLst>
                        <p:cond delay="0"/>
                      </p:stCondLst>
                      <p:childTnLst>
                        <p:par>
                          <p:cTn id="986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9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4000" spc="-1" strike="noStrike" u="sng">
                <a:solidFill>
                  <a:srgbClr val="cc3300"/>
                </a:solidFill>
                <a:uFillTx/>
                <a:latin typeface="Arial"/>
              </a:rPr>
              <a:t>GRADI DI GIUDIZI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50752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La giurisdizione tributaria è esercitata dal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4"/>
          <p:cNvSpPr/>
          <p:nvPr/>
        </p:nvSpPr>
        <p:spPr>
          <a:xfrm flipH="1">
            <a:off x="1979640" y="2492280"/>
            <a:ext cx="2160720" cy="1368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" name="Line 6"/>
          <p:cNvSpPr/>
          <p:nvPr/>
        </p:nvSpPr>
        <p:spPr>
          <a:xfrm>
            <a:off x="4356000" y="2492280"/>
            <a:ext cx="2303640" cy="1368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" name="Rectangle 14"/>
          <p:cNvSpPr/>
          <p:nvPr/>
        </p:nvSpPr>
        <p:spPr>
          <a:xfrm>
            <a:off x="324000" y="3933720"/>
            <a:ext cx="3384360" cy="1295640"/>
          </a:xfrm>
          <a:prstGeom prst="rect">
            <a:avLst/>
          </a:prstGeom>
          <a:solidFill>
            <a:srgbClr val="ffff66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" name="Text Box 16"/>
          <p:cNvSpPr/>
          <p:nvPr/>
        </p:nvSpPr>
        <p:spPr>
          <a:xfrm>
            <a:off x="383040" y="4149720"/>
            <a:ext cx="3256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COMMISSIONI TRIBUTARIE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PROVINCIALI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Text Box 42"/>
          <p:cNvSpPr/>
          <p:nvPr/>
        </p:nvSpPr>
        <p:spPr>
          <a:xfrm>
            <a:off x="1959120" y="606744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" name="Text Box 43"/>
          <p:cNvSpPr/>
          <p:nvPr/>
        </p:nvSpPr>
        <p:spPr>
          <a:xfrm>
            <a:off x="1816200" y="361944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Text Box 46"/>
          <p:cNvSpPr/>
          <p:nvPr/>
        </p:nvSpPr>
        <p:spPr>
          <a:xfrm>
            <a:off x="663480" y="318780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" name="Rectangle 49"/>
          <p:cNvSpPr/>
          <p:nvPr/>
        </p:nvSpPr>
        <p:spPr>
          <a:xfrm>
            <a:off x="5291280" y="3933720"/>
            <a:ext cx="3528720" cy="1295640"/>
          </a:xfrm>
          <a:prstGeom prst="rect">
            <a:avLst/>
          </a:prstGeom>
          <a:solidFill>
            <a:srgbClr val="ffff66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" name="Text Box 51"/>
          <p:cNvSpPr/>
          <p:nvPr/>
        </p:nvSpPr>
        <p:spPr>
          <a:xfrm>
            <a:off x="5436360" y="4156200"/>
            <a:ext cx="325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COMMISSIONI TRIBUTARIE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REGIONALI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11" descr="2"/>
          <p:cNvPicPr/>
          <p:nvPr/>
        </p:nvPicPr>
        <p:blipFill>
          <a:blip r:embed="rId1"/>
          <a:stretch/>
        </p:blipFill>
        <p:spPr>
          <a:xfrm>
            <a:off x="1908000" y="0"/>
            <a:ext cx="5040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5" dur="indefinite" restart="never" nodeType="tmRoot">
          <p:childTnLst>
            <p:seq>
              <p:cTn id="996" dur="indefinite" nodeType="mainSeq">
                <p:childTnLst>
                  <p:par>
                    <p:cTn id="997" fill="hold">
                      <p:stCondLst>
                        <p:cond delay="0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Picture 18" descr="3"/>
          <p:cNvPicPr/>
          <p:nvPr/>
        </p:nvPicPr>
        <p:blipFill>
          <a:blip r:embed="rId1"/>
          <a:stretch/>
        </p:blipFill>
        <p:spPr>
          <a:xfrm>
            <a:off x="2195640" y="0"/>
            <a:ext cx="4680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3" dur="indefinite" restart="never" nodeType="tmRoot">
          <p:childTnLst>
            <p:seq>
              <p:cTn id="1004" dur="indefinite" nodeType="mainSeq">
                <p:childTnLst>
                  <p:par>
                    <p:cTn id="1005" fill="hold">
                      <p:stCondLst>
                        <p:cond delay="0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9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WordArt 5"/>
          <p:cNvSpPr txBox="1"/>
          <p:nvPr/>
        </p:nvSpPr>
        <p:spPr>
          <a:xfrm>
            <a:off x="1500120" y="2500200"/>
            <a:ext cx="685800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3300"/>
                </a:solidFill>
                <a:latin typeface="Arial Black"/>
              </a:rPr>
              <a:t>GRAZIE DELL'ATTENZIONE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cc3300"/>
              </a:solidFill>
              <a:latin typeface="Arial Black"/>
              <a:ea typeface="Arial Black"/>
            </a:endParaRPr>
          </a:p>
        </p:txBody>
      </p:sp>
      <p:sp>
        <p:nvSpPr>
          <p:cNvPr id="250" name="Rettangolo 2"/>
          <p:cNvSpPr/>
          <p:nvPr/>
        </p:nvSpPr>
        <p:spPr>
          <a:xfrm>
            <a:off x="2000160" y="4143240"/>
            <a:ext cx="40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200" spc="-1" strike="noStrike" u="sng">
                <a:solidFill>
                  <a:srgbClr val="c5000b"/>
                </a:solidFill>
                <a:uFillTx/>
                <a:latin typeface="Constantia"/>
              </a:rPr>
              <a:t>Indirizzo mail : 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200" spc="-1" strike="noStrike" u="sng">
                <a:solidFill>
                  <a:srgbClr val="c5000b"/>
                </a:solidFill>
                <a:uFillTx/>
                <a:latin typeface="Constantia"/>
              </a:rPr>
              <a:t>studiopillitteri@alice.it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10920" y="907920"/>
            <a:ext cx="784692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4000" spc="-1" strike="noStrike">
                <a:solidFill>
                  <a:srgbClr val="000000"/>
                </a:solidFill>
                <a:latin typeface="Arial"/>
              </a:rPr>
              <a:t>LE REGOLE del PROCESSO DAVANTI alla COMMISSIONE </a:t>
            </a:r>
            <a:br>
              <a:rPr sz="4000"/>
            </a:br>
            <a:r>
              <a:rPr b="1" lang="it-IT" sz="4000" spc="-1" strike="noStrike">
                <a:solidFill>
                  <a:srgbClr val="000000"/>
                </a:solidFill>
                <a:latin typeface="Arial"/>
              </a:rPr>
              <a:t>TRIBUTARIA PROVINCIA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371600" y="4437000"/>
            <a:ext cx="64008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 u="sng">
                <a:solidFill>
                  <a:srgbClr val="000000"/>
                </a:solidFill>
                <a:uFillTx/>
                <a:latin typeface="Arial"/>
              </a:rPr>
              <a:t>ELEMENTI ESSENZIALI del RICORSO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4000" spc="-1" strike="noStrike" u="sng">
                <a:solidFill>
                  <a:srgbClr val="cc3300"/>
                </a:solidFill>
                <a:uFillTx/>
                <a:latin typeface="Arial"/>
              </a:rPr>
              <a:t>OGGETTO DELLA GIURISDIZIONE TRIBUTAR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4"/>
          <p:cNvSpPr/>
          <p:nvPr/>
        </p:nvSpPr>
        <p:spPr>
          <a:xfrm>
            <a:off x="400680" y="2563920"/>
            <a:ext cx="3821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Regionali, Provinciali e Comunali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" name="Text Box 7"/>
          <p:cNvSpPr/>
          <p:nvPr/>
        </p:nvSpPr>
        <p:spPr>
          <a:xfrm>
            <a:off x="401040" y="3141720"/>
            <a:ext cx="501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ontributo per il Servizio Sanitario Nazionale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" name="Text Box 8"/>
          <p:cNvSpPr/>
          <p:nvPr/>
        </p:nvSpPr>
        <p:spPr>
          <a:xfrm>
            <a:off x="396720" y="3716280"/>
            <a:ext cx="175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ovrimposte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Text Box 9"/>
          <p:cNvSpPr/>
          <p:nvPr/>
        </p:nvSpPr>
        <p:spPr>
          <a:xfrm>
            <a:off x="421560" y="4286160"/>
            <a:ext cx="159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ddizionali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Text Box 10"/>
          <p:cNvSpPr/>
          <p:nvPr/>
        </p:nvSpPr>
        <p:spPr>
          <a:xfrm>
            <a:off x="401400" y="4791240"/>
            <a:ext cx="675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anzioni amministrative, comunque irrogate da uffici finanziari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Text Box 11"/>
          <p:cNvSpPr/>
          <p:nvPr/>
        </p:nvSpPr>
        <p:spPr>
          <a:xfrm>
            <a:off x="399240" y="5367240"/>
            <a:ext cx="412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Gli interessi ed ogni altro accessorio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" name="Text Box 12"/>
          <p:cNvSpPr/>
          <p:nvPr/>
        </p:nvSpPr>
        <p:spPr>
          <a:xfrm>
            <a:off x="395280" y="1700280"/>
            <a:ext cx="79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Tutte le controversie aventi ad oggetto i </a:t>
            </a: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tributi di ogni genere e specie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, comunque denominati compresi quelli: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4000" spc="-1" strike="noStrike" u="sng">
                <a:solidFill>
                  <a:srgbClr val="cc3300"/>
                </a:solidFill>
                <a:uFillTx/>
                <a:latin typeface="Arial"/>
              </a:rPr>
              <a:t>ATTI IMPUGNABIL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700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l ricorso può essere proposto avvers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4"/>
          <p:cNvSpPr/>
          <p:nvPr/>
        </p:nvSpPr>
        <p:spPr>
          <a:xfrm>
            <a:off x="449640" y="2205000"/>
            <a:ext cx="285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vviso di accertamento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Text Box 5"/>
          <p:cNvSpPr/>
          <p:nvPr/>
        </p:nvSpPr>
        <p:spPr>
          <a:xfrm>
            <a:off x="471960" y="3068640"/>
            <a:ext cx="266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vviso di liquidazione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Text Box 6"/>
          <p:cNvSpPr/>
          <p:nvPr/>
        </p:nvSpPr>
        <p:spPr>
          <a:xfrm>
            <a:off x="482040" y="3860640"/>
            <a:ext cx="422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rovvedimento che irroga le sanzioni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Text Box 7"/>
          <p:cNvSpPr/>
          <p:nvPr/>
        </p:nvSpPr>
        <p:spPr>
          <a:xfrm>
            <a:off x="472680" y="4724280"/>
            <a:ext cx="376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Ruolo e la cartella di pagamento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Text Box 8"/>
          <p:cNvSpPr/>
          <p:nvPr/>
        </p:nvSpPr>
        <p:spPr>
          <a:xfrm>
            <a:off x="469800" y="5510160"/>
            <a:ext cx="198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vviso di mora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800" spc="-1" strike="noStrike" u="sng">
                <a:solidFill>
                  <a:srgbClr val="dc2300"/>
                </a:solidFill>
                <a:uFillTx/>
                <a:latin typeface="Arial"/>
              </a:rPr>
              <a:t>Il ricorso deve indicare, a pena di inammissibilità</a:t>
            </a:r>
            <a:r>
              <a:rPr b="0" lang="it-IT" sz="2800" spc="-1" strike="noStrike">
                <a:solidFill>
                  <a:srgbClr val="7e0021"/>
                </a:solidFill>
                <a:latin typeface="Arial"/>
              </a:rPr>
              <a:t>:</a:t>
            </a:r>
            <a:r>
              <a:rPr b="0" lang="it-IT" sz="4400" spc="-1" strike="noStrike">
                <a:solidFill>
                  <a:srgbClr val="7e0021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2"/>
          <p:cNvSpPr/>
          <p:nvPr/>
        </p:nvSpPr>
        <p:spPr>
          <a:xfrm>
            <a:off x="108000" y="1368360"/>
            <a:ext cx="1332000" cy="3060720"/>
          </a:xfrm>
          <a:custGeom>
            <a:avLst/>
            <a:gdLst>
              <a:gd name="textAreaLeft" fmla="*/ 360 w 1332000"/>
              <a:gd name="textAreaRight" fmla="*/ 1331640 w 1332000"/>
              <a:gd name="textAreaTop" fmla="*/ 360 h 3060720"/>
              <a:gd name="textAreaBottom" fmla="*/ 3060360 h 3060720"/>
            </a:gdLst>
            <a:ahLst/>
            <a:rect l="textAreaLeft" t="textAreaTop" r="textAreaRight" b="textAreaBottom"/>
            <a:pathLst>
              <a:path w="21600" h="49626">
                <a:moveTo>
                  <a:pt x="25" y="0"/>
                </a:moveTo>
                <a:arcTo wR="25" hR="25" stAng="16200000" swAng="-5400000"/>
                <a:lnTo>
                  <a:pt x="0" y="49601"/>
                </a:lnTo>
                <a:arcTo wR="25" hR="25" stAng="10800000" swAng="-5400000"/>
                <a:lnTo>
                  <a:pt x="21575" y="49626"/>
                </a:lnTo>
                <a:arcTo wR="25" hR="25" stAng="5400000" swAng="-5400000"/>
                <a:lnTo>
                  <a:pt x="21600" y="25"/>
                </a:lnTo>
                <a:arcTo wR="25" hR="25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Text Box 3"/>
          <p:cNvSpPr/>
          <p:nvPr/>
        </p:nvSpPr>
        <p:spPr>
          <a:xfrm>
            <a:off x="0" y="1413000"/>
            <a:ext cx="158436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LA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COMMISSIONE TRIBUTARIA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adita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ioè l'organo giurisdizionale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ui si chiede la valutazione della controversia e la decisione;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" name="AutoShape 4"/>
          <p:cNvSpPr/>
          <p:nvPr/>
        </p:nvSpPr>
        <p:spPr>
          <a:xfrm>
            <a:off x="1512720" y="1368360"/>
            <a:ext cx="1835280" cy="3060720"/>
          </a:xfrm>
          <a:custGeom>
            <a:avLst/>
            <a:gdLst>
              <a:gd name="textAreaLeft" fmla="*/ 360 w 1835280"/>
              <a:gd name="textAreaRight" fmla="*/ 1834920 w 1835280"/>
              <a:gd name="textAreaTop" fmla="*/ 360 h 3060720"/>
              <a:gd name="textAreaBottom" fmla="*/ 3060360 h 3060720"/>
            </a:gdLst>
            <a:ahLst/>
            <a:rect l="textAreaLeft" t="textAreaTop" r="textAreaRight" b="textAreaBottom"/>
            <a:pathLst>
              <a:path w="21600" h="36020">
                <a:moveTo>
                  <a:pt x="20" y="0"/>
                </a:moveTo>
                <a:arcTo wR="20" hR="20" stAng="16200000" swAng="-5400000"/>
                <a:lnTo>
                  <a:pt x="0" y="36000"/>
                </a:lnTo>
                <a:arcTo wR="20" hR="20" stAng="10800000" swAng="-5400000"/>
                <a:lnTo>
                  <a:pt x="21580" y="36020"/>
                </a:lnTo>
                <a:arcTo wR="20" hR="20" stAng="5400000" swAng="-5400000"/>
                <a:lnTo>
                  <a:pt x="21600" y="20"/>
                </a:lnTo>
                <a:arcTo wR="20" hR="2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2879640" y="2160720"/>
            <a:ext cx="21600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Text Box 6"/>
          <p:cNvSpPr/>
          <p:nvPr/>
        </p:nvSpPr>
        <p:spPr>
          <a:xfrm>
            <a:off x="1440000" y="1368360"/>
            <a:ext cx="1908000" cy="29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IL RICORRENTE e suo legale rappresentante: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on le relative specificazioni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la mancanza del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odice fiscale comporterà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l'irrogazione della relativa sanzione amministrativa, ma non l'inammissibilità);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AutoShape 7"/>
          <p:cNvSpPr/>
          <p:nvPr/>
        </p:nvSpPr>
        <p:spPr>
          <a:xfrm>
            <a:off x="3419640" y="1368360"/>
            <a:ext cx="1368360" cy="3060720"/>
          </a:xfrm>
          <a:custGeom>
            <a:avLst/>
            <a:gdLst>
              <a:gd name="textAreaLeft" fmla="*/ 360 w 1368360"/>
              <a:gd name="textAreaRight" fmla="*/ 1368000 w 1368360"/>
              <a:gd name="textAreaTop" fmla="*/ 360 h 3060720"/>
              <a:gd name="textAreaBottom" fmla="*/ 3060360 h 3060720"/>
            </a:gdLst>
            <a:ahLst/>
            <a:rect l="textAreaLeft" t="textAreaTop" r="textAreaRight" b="textAreaBottom"/>
            <a:pathLst>
              <a:path w="21600" h="48307">
                <a:moveTo>
                  <a:pt x="25" y="0"/>
                </a:moveTo>
                <a:arcTo wR="25" hR="25" stAng="16200000" swAng="-5400000"/>
                <a:lnTo>
                  <a:pt x="0" y="48282"/>
                </a:lnTo>
                <a:arcTo wR="25" hR="25" stAng="10800000" swAng="-5400000"/>
                <a:lnTo>
                  <a:pt x="21575" y="48307"/>
                </a:lnTo>
                <a:arcTo wR="25" hR="25" stAng="5400000" swAng="-5400000"/>
                <a:lnTo>
                  <a:pt x="21600" y="25"/>
                </a:lnTo>
                <a:arcTo wR="25" hR="25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Text Box 8"/>
          <p:cNvSpPr/>
          <p:nvPr/>
        </p:nvSpPr>
        <p:spPr>
          <a:xfrm>
            <a:off x="3384720" y="1444680"/>
            <a:ext cx="1439640" cy="24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IL RESISTENTE: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Ufficio finanziario, Ente territoriale locale (Comune, Provincia e Regione), Agente della riscossione;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AutoShape 9"/>
          <p:cNvSpPr/>
          <p:nvPr/>
        </p:nvSpPr>
        <p:spPr>
          <a:xfrm>
            <a:off x="4861080" y="1368360"/>
            <a:ext cx="1187280" cy="3060720"/>
          </a:xfrm>
          <a:custGeom>
            <a:avLst/>
            <a:gdLst>
              <a:gd name="textAreaLeft" fmla="*/ 360 w 1187280"/>
              <a:gd name="textAreaRight" fmla="*/ 1186920 w 1187280"/>
              <a:gd name="textAreaTop" fmla="*/ 360 h 3060720"/>
              <a:gd name="textAreaBottom" fmla="*/ 3060360 h 3060720"/>
            </a:gdLst>
            <a:ahLst/>
            <a:rect l="textAreaLeft" t="textAreaTop" r="textAreaRight" b="textAreaBottom"/>
            <a:pathLst>
              <a:path w="21600" h="55673">
                <a:moveTo>
                  <a:pt x="28" y="0"/>
                </a:moveTo>
                <a:arcTo wR="28" hR="28" stAng="16200000" swAng="-5400000"/>
                <a:lnTo>
                  <a:pt x="0" y="55645"/>
                </a:lnTo>
                <a:arcTo wR="28" hR="28" stAng="10800000" swAng="-5400000"/>
                <a:lnTo>
                  <a:pt x="21572" y="55673"/>
                </a:lnTo>
                <a:arcTo wR="28" hR="28" stAng="5400000" swAng="-5400000"/>
                <a:lnTo>
                  <a:pt x="21600" y="28"/>
                </a:lnTo>
                <a:arcTo wR="28" hR="28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Text Box 10"/>
          <p:cNvSpPr/>
          <p:nvPr/>
        </p:nvSpPr>
        <p:spPr>
          <a:xfrm>
            <a:off x="4788000" y="1440000"/>
            <a:ext cx="1368360" cy="29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L' ATTO IMPUGNATO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avviso di accertamento, di rettifica, di liquidazione, di irrogazione delle sanzioni amministrativeecc.);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AutoShape 11"/>
          <p:cNvSpPr/>
          <p:nvPr/>
        </p:nvSpPr>
        <p:spPr>
          <a:xfrm>
            <a:off x="6119640" y="1368360"/>
            <a:ext cx="1548000" cy="3060720"/>
          </a:xfrm>
          <a:custGeom>
            <a:avLst/>
            <a:gdLst>
              <a:gd name="textAreaLeft" fmla="*/ 360 w 1548000"/>
              <a:gd name="textAreaRight" fmla="*/ 1547640 w 1548000"/>
              <a:gd name="textAreaTop" fmla="*/ 360 h 3060720"/>
              <a:gd name="textAreaBottom" fmla="*/ 3060360 h 3060720"/>
            </a:gdLst>
            <a:ahLst/>
            <a:rect l="textAreaLeft" t="textAreaTop" r="textAreaRight" b="textAreaBottom"/>
            <a:pathLst>
              <a:path w="21600" h="42703">
                <a:moveTo>
                  <a:pt x="22" y="0"/>
                </a:moveTo>
                <a:arcTo wR="22" hR="22" stAng="16200000" swAng="-5400000"/>
                <a:lnTo>
                  <a:pt x="0" y="42681"/>
                </a:lnTo>
                <a:arcTo wR="22" hR="22" stAng="10800000" swAng="-5400000"/>
                <a:lnTo>
                  <a:pt x="21578" y="42703"/>
                </a:lnTo>
                <a:arcTo wR="22" hR="22" stAng="5400000" swAng="-5400000"/>
                <a:lnTo>
                  <a:pt x="21600" y="22"/>
                </a:lnTo>
                <a:arcTo wR="22" hR="22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Text Box 12"/>
          <p:cNvSpPr/>
          <p:nvPr/>
        </p:nvSpPr>
        <p:spPr>
          <a:xfrm>
            <a:off x="6048360" y="1368360"/>
            <a:ext cx="1619280" cy="30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L' OGGETTO della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DOMANDA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Annullamento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totale o parziale delle pretese impositive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ontenute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nell'atto impugnato e/o dichiarazione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i nullità dello stesso;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AutoShape 13"/>
          <p:cNvSpPr/>
          <p:nvPr/>
        </p:nvSpPr>
        <p:spPr>
          <a:xfrm>
            <a:off x="7738920" y="1368360"/>
            <a:ext cx="1405080" cy="3060720"/>
          </a:xfrm>
          <a:custGeom>
            <a:avLst/>
            <a:gdLst>
              <a:gd name="textAreaLeft" fmla="*/ 360 w 1405080"/>
              <a:gd name="textAreaRight" fmla="*/ 1404720 w 1405080"/>
              <a:gd name="textAreaTop" fmla="*/ 360 h 3060720"/>
              <a:gd name="textAreaBottom" fmla="*/ 3060360 h 3060720"/>
            </a:gdLst>
            <a:ahLst/>
            <a:rect l="textAreaLeft" t="textAreaTop" r="textAreaRight" b="textAreaBottom"/>
            <a:pathLst>
              <a:path w="21600" h="47045">
                <a:moveTo>
                  <a:pt x="27" y="0"/>
                </a:moveTo>
                <a:arcTo wR="27" hR="27" stAng="16200000" swAng="-5400000"/>
                <a:lnTo>
                  <a:pt x="0" y="47018"/>
                </a:lnTo>
                <a:arcTo wR="27" hR="27" stAng="10800000" swAng="-5400000"/>
                <a:lnTo>
                  <a:pt x="21573" y="47045"/>
                </a:lnTo>
                <a:arcTo wR="27" hR="27" stAng="5400000" swAng="-5400000"/>
                <a:lnTo>
                  <a:pt x="21600" y="27"/>
                </a:lnTo>
                <a:arcTo wR="27" hR="27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Text Box 14"/>
          <p:cNvSpPr/>
          <p:nvPr/>
        </p:nvSpPr>
        <p:spPr>
          <a:xfrm>
            <a:off x="7669080" y="1476360"/>
            <a:ext cx="147492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I MOTIVI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er cui si ritiene di aver diritto all'accoglimento della domanda;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Text Box 15"/>
          <p:cNvSpPr/>
          <p:nvPr/>
        </p:nvSpPr>
        <p:spPr>
          <a:xfrm>
            <a:off x="2340000" y="4400640"/>
            <a:ext cx="360036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dc2300"/>
                </a:solidFill>
                <a:latin typeface="Lucida Sans Unicode"/>
              </a:rPr>
              <a:t>e deve recare la: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0" name="AutoShape 16"/>
          <p:cNvSpPr/>
          <p:nvPr/>
        </p:nvSpPr>
        <p:spPr>
          <a:xfrm>
            <a:off x="539640" y="4788000"/>
            <a:ext cx="3600720" cy="1692000"/>
          </a:xfrm>
          <a:prstGeom prst="roundRect">
            <a:avLst>
              <a:gd name="adj" fmla="val 102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Text Box 17"/>
          <p:cNvSpPr/>
          <p:nvPr/>
        </p:nvSpPr>
        <p:spPr>
          <a:xfrm>
            <a:off x="684360" y="4724280"/>
            <a:ext cx="3240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4586"/>
                </a:solidFill>
                <a:latin typeface="Arial"/>
              </a:rPr>
              <a:t>(</a:t>
            </a:r>
            <a:r>
              <a:rPr b="1" i="1" lang="it-IT" sz="1400" spc="-1" strike="noStrike">
                <a:solidFill>
                  <a:srgbClr val="004586"/>
                </a:solidFill>
                <a:latin typeface="Arial"/>
              </a:rPr>
              <a:t>come regola</a:t>
            </a:r>
            <a:r>
              <a:rPr b="1" lang="it-IT" sz="1400" spc="-1" strike="noStrike">
                <a:solidFill>
                  <a:srgbClr val="004586"/>
                </a:solidFill>
                <a:latin typeface="Arial"/>
              </a:rPr>
              <a:t>)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500" spc="-1" strike="noStrike">
                <a:solidFill>
                  <a:srgbClr val="000000"/>
                </a:solidFill>
                <a:latin typeface="Arial"/>
              </a:rPr>
              <a:t>LA SOTTOSCRIZIONE 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l difensore munito di procura (firmata dal ricorrente e autenticata dal difensore stesso) in calce o a margine del ricorso;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2" name="AutoShape 18"/>
          <p:cNvSpPr/>
          <p:nvPr/>
        </p:nvSpPr>
        <p:spPr>
          <a:xfrm>
            <a:off x="4500720" y="4824360"/>
            <a:ext cx="3958920" cy="1619280"/>
          </a:xfrm>
          <a:prstGeom prst="roundRect">
            <a:avLst>
              <a:gd name="adj" fmla="val 9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3" name="Text Box 19"/>
          <p:cNvSpPr/>
          <p:nvPr/>
        </p:nvSpPr>
        <p:spPr>
          <a:xfrm>
            <a:off x="4500720" y="4802040"/>
            <a:ext cx="3958920" cy="20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4586"/>
                </a:solidFill>
                <a:latin typeface="Arial"/>
              </a:rPr>
              <a:t>(</a:t>
            </a:r>
            <a:r>
              <a:rPr b="1" i="1" lang="it-IT" sz="1400" spc="-1" strike="noStrike">
                <a:solidFill>
                  <a:srgbClr val="004586"/>
                </a:solidFill>
                <a:latin typeface="Arial"/>
              </a:rPr>
              <a:t>come eccezione</a:t>
            </a:r>
            <a:r>
              <a:rPr b="0" lang="it-IT" sz="1400" spc="-1" strike="noStrike">
                <a:solidFill>
                  <a:srgbClr val="004586"/>
                </a:solidFill>
                <a:latin typeface="Arial"/>
              </a:rPr>
              <a:t>)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500" spc="-1" strike="noStrike">
                <a:solidFill>
                  <a:srgbClr val="000000"/>
                </a:solidFill>
                <a:latin typeface="Arial"/>
              </a:rPr>
              <a:t>LA SOTTOSCRIZIONE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llo stesso ricorrente: solo per le controversie di valore inferiore a € 3.000 o se il ricorrente è abilitato alla difesa tecnica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4" name="Text Box 20"/>
          <p:cNvSpPr/>
          <p:nvPr/>
        </p:nvSpPr>
        <p:spPr>
          <a:xfrm>
            <a:off x="539640" y="6477120"/>
            <a:ext cx="735192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N.B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: La 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SOTTOSCRIZIONE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va apposta su tutti gli esemplari 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(originale e copie)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l ricorso.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5" name="Line 21"/>
          <p:cNvSpPr/>
          <p:nvPr/>
        </p:nvSpPr>
        <p:spPr>
          <a:xfrm flipH="1">
            <a:off x="1429920" y="900000"/>
            <a:ext cx="2538360" cy="360360"/>
          </a:xfrm>
          <a:prstGeom prst="line">
            <a:avLst/>
          </a:prstGeom>
          <a:ln w="108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6" name="Line 22"/>
          <p:cNvSpPr/>
          <p:nvPr/>
        </p:nvSpPr>
        <p:spPr>
          <a:xfrm flipH="1">
            <a:off x="2689200" y="900000"/>
            <a:ext cx="127944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7" name="Line 23"/>
          <p:cNvSpPr/>
          <p:nvPr/>
        </p:nvSpPr>
        <p:spPr>
          <a:xfrm>
            <a:off x="3959280" y="900000"/>
            <a:ext cx="144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8" name="Line 24"/>
          <p:cNvSpPr/>
          <p:nvPr/>
        </p:nvSpPr>
        <p:spPr>
          <a:xfrm>
            <a:off x="3959280" y="900000"/>
            <a:ext cx="431964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9" name="Line 25"/>
          <p:cNvSpPr/>
          <p:nvPr/>
        </p:nvSpPr>
        <p:spPr>
          <a:xfrm>
            <a:off x="3959280" y="900000"/>
            <a:ext cx="287964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0" name="Line 26"/>
          <p:cNvSpPr/>
          <p:nvPr/>
        </p:nvSpPr>
        <p:spPr>
          <a:xfrm>
            <a:off x="3959280" y="900000"/>
            <a:ext cx="143964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800" spc="-1" strike="noStrike" u="sng">
                <a:solidFill>
                  <a:srgbClr val="dc2300"/>
                </a:solidFill>
                <a:uFillTx/>
                <a:latin typeface="Arial"/>
              </a:rPr>
              <a:t>Il ricorso deve inoltre indicare</a:t>
            </a:r>
            <a:r>
              <a:rPr b="0" lang="it-IT" sz="2800" spc="-1" strike="noStrike">
                <a:solidFill>
                  <a:srgbClr val="dc2300"/>
                </a:solidFill>
                <a:latin typeface="Arial"/>
              </a:rPr>
              <a:t> (</a:t>
            </a:r>
            <a:r>
              <a:rPr b="0" lang="it-IT" sz="2800" spc="-1" strike="noStrike" u="sng">
                <a:solidFill>
                  <a:srgbClr val="dc2300"/>
                </a:solidFill>
                <a:uFillTx/>
                <a:latin typeface="Arial"/>
              </a:rPr>
              <a:t>ancorché non a pena di inammissibilità</a:t>
            </a:r>
            <a:r>
              <a:rPr b="0" lang="it-IT" sz="2800" spc="-1" strike="noStrike">
                <a:solidFill>
                  <a:srgbClr val="dc2300"/>
                </a:solidFill>
                <a:latin typeface="Arial"/>
              </a:rPr>
              <a:t>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2"/>
          <p:cNvSpPr/>
          <p:nvPr/>
        </p:nvSpPr>
        <p:spPr>
          <a:xfrm>
            <a:off x="360360" y="2340000"/>
            <a:ext cx="2160720" cy="4140000"/>
          </a:xfrm>
          <a:custGeom>
            <a:avLst/>
            <a:gdLst>
              <a:gd name="textAreaLeft" fmla="*/ 360 w 2160720"/>
              <a:gd name="textAreaRight" fmla="*/ 2160360 w 2160720"/>
              <a:gd name="textAreaTop" fmla="*/ 360 h 4140000"/>
              <a:gd name="textAreaBottom" fmla="*/ 4139640 h 4140000"/>
            </a:gdLst>
            <a:ahLst/>
            <a:rect l="textAreaLeft" t="textAreaTop" r="textAreaRight" b="textAreaBottom"/>
            <a:pathLst>
              <a:path w="21600" h="41383">
                <a:moveTo>
                  <a:pt x="15" y="0"/>
                </a:moveTo>
                <a:arcTo wR="15" hR="15" stAng="16200000" swAng="-5400000"/>
                <a:lnTo>
                  <a:pt x="0" y="41368"/>
                </a:lnTo>
                <a:arcTo wR="15" hR="15" stAng="10800000" swAng="-5400000"/>
                <a:lnTo>
                  <a:pt x="21585" y="41383"/>
                </a:lnTo>
                <a:arcTo wR="15" hR="15" stAng="5400000" swAng="-5400000"/>
                <a:lnTo>
                  <a:pt x="21600" y="15"/>
                </a:lnTo>
                <a:arcTo wR="15" hR="15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AutoShape 3"/>
          <p:cNvSpPr/>
          <p:nvPr/>
        </p:nvSpPr>
        <p:spPr>
          <a:xfrm>
            <a:off x="2592360" y="2340000"/>
            <a:ext cx="1800360" cy="4140000"/>
          </a:xfrm>
          <a:custGeom>
            <a:avLst/>
            <a:gdLst>
              <a:gd name="textAreaLeft" fmla="*/ 360 w 1800360"/>
              <a:gd name="textAreaRight" fmla="*/ 1800000 w 1800360"/>
              <a:gd name="textAreaTop" fmla="*/ 360 h 4140000"/>
              <a:gd name="textAreaBottom" fmla="*/ 4139640 h 4140000"/>
            </a:gdLst>
            <a:ahLst/>
            <a:rect l="textAreaLeft" t="textAreaTop" r="textAreaRight" b="textAreaBottom"/>
            <a:pathLst>
              <a:path w="21600" h="49664">
                <a:moveTo>
                  <a:pt x="19" y="0"/>
                </a:moveTo>
                <a:arcTo wR="19" hR="19" stAng="16200000" swAng="-5400000"/>
                <a:lnTo>
                  <a:pt x="0" y="49645"/>
                </a:lnTo>
                <a:arcTo wR="19" hR="19" stAng="10800000" swAng="-5400000"/>
                <a:lnTo>
                  <a:pt x="21581" y="49664"/>
                </a:lnTo>
                <a:arcTo wR="19" hR="19" stAng="5400000" swAng="-5400000"/>
                <a:lnTo>
                  <a:pt x="21600" y="19"/>
                </a:lnTo>
                <a:arcTo wR="19" hR="19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4" name="AutoShape 4"/>
          <p:cNvSpPr/>
          <p:nvPr/>
        </p:nvSpPr>
        <p:spPr>
          <a:xfrm>
            <a:off x="4500720" y="2340000"/>
            <a:ext cx="2339640" cy="4140000"/>
          </a:xfrm>
          <a:custGeom>
            <a:avLst/>
            <a:gdLst>
              <a:gd name="textAreaLeft" fmla="*/ 360 w 2339640"/>
              <a:gd name="textAreaRight" fmla="*/ 2339280 w 2339640"/>
              <a:gd name="textAreaTop" fmla="*/ 360 h 4140000"/>
              <a:gd name="textAreaBottom" fmla="*/ 4139640 h 4140000"/>
            </a:gdLst>
            <a:ahLst/>
            <a:rect l="textAreaLeft" t="textAreaTop" r="textAreaRight" b="textAreaBottom"/>
            <a:pathLst>
              <a:path w="21600" h="38219">
                <a:moveTo>
                  <a:pt x="14" y="0"/>
                </a:moveTo>
                <a:arcTo wR="14" hR="14" stAng="16200000" swAng="-5400000"/>
                <a:lnTo>
                  <a:pt x="0" y="38205"/>
                </a:lnTo>
                <a:arcTo wR="14" hR="14" stAng="10800000" swAng="-5400000"/>
                <a:lnTo>
                  <a:pt x="21586" y="38219"/>
                </a:lnTo>
                <a:arcTo wR="14" hR="14" stAng="5400000" swAng="-5400000"/>
                <a:lnTo>
                  <a:pt x="21600" y="14"/>
                </a:lnTo>
                <a:arcTo wR="14" hR="14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360360" y="2363760"/>
            <a:ext cx="2160720" cy="30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500" spc="-1" strike="noStrike">
                <a:solidFill>
                  <a:srgbClr val="000000"/>
                </a:solidFill>
                <a:latin typeface="Arial"/>
              </a:rPr>
              <a:t>IL CODICE FISCALE: 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del ricorrente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, la cui omissione è punita con l'aumento del 50% del Contributo unificato dovuto (art. 13, comma 3-bis, D.P.R. 115/2002);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del difensore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, la cui omissione è punita con la sanzione pecuniaria da € 103,00 a € 2.065,00 (art. 20, D.Lgs. 473/1997);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6" name="Text Box 6"/>
          <p:cNvSpPr/>
          <p:nvPr/>
        </p:nvSpPr>
        <p:spPr>
          <a:xfrm>
            <a:off x="2592360" y="2340000"/>
            <a:ext cx="1800360" cy="23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500" spc="-1" strike="noStrike">
                <a:solidFill>
                  <a:srgbClr val="000000"/>
                </a:solidFill>
                <a:latin typeface="Arial"/>
              </a:rPr>
              <a:t>NUMERO di FAX del difensore, 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la cui omissione è punita con  l'aumento del 50% del Contributo unificato dovuto (art. 13, comma 3-bis, D.P.R. 115/2002);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7" name="Line 7"/>
          <p:cNvSpPr/>
          <p:nvPr/>
        </p:nvSpPr>
        <p:spPr>
          <a:xfrm flipH="1">
            <a:off x="1969920" y="1440000"/>
            <a:ext cx="1641600" cy="720720"/>
          </a:xfrm>
          <a:prstGeom prst="line">
            <a:avLst/>
          </a:prstGeom>
          <a:ln w="468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8" name="Line 8"/>
          <p:cNvSpPr/>
          <p:nvPr/>
        </p:nvSpPr>
        <p:spPr>
          <a:xfrm>
            <a:off x="4859280" y="1440000"/>
            <a:ext cx="720720" cy="720720"/>
          </a:xfrm>
          <a:prstGeom prst="line">
            <a:avLst/>
          </a:prstGeom>
          <a:ln w="468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9" name="Text Box 9"/>
          <p:cNvSpPr/>
          <p:nvPr/>
        </p:nvSpPr>
        <p:spPr>
          <a:xfrm>
            <a:off x="4535640" y="2332080"/>
            <a:ext cx="2340000" cy="376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500" spc="-1" strike="noStrike">
                <a:solidFill>
                  <a:srgbClr val="000000"/>
                </a:solidFill>
                <a:latin typeface="Arial"/>
              </a:rPr>
              <a:t>oppure L' INDIRIZZO di Posta elettronica certificata (P.E.C.</a:t>
            </a:r>
            <a:r>
              <a:rPr b="0" lang="it-IT" sz="15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per i ricorrenti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obbligati alla sua attivazione (società di capitali, ecc.), la cui omissione non comporta però alcuna conseguenza negativa per i trasgressori;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del difensore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la cui omissione è punita con l'aumento del 50% del Contributo    unificato dovuto (art. 13, comma 3-bis, D.P.R. 115/2002);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AutoShape 10"/>
          <p:cNvSpPr/>
          <p:nvPr/>
        </p:nvSpPr>
        <p:spPr>
          <a:xfrm>
            <a:off x="6948360" y="2340000"/>
            <a:ext cx="2051280" cy="4140000"/>
          </a:xfrm>
          <a:custGeom>
            <a:avLst/>
            <a:gdLst>
              <a:gd name="textAreaLeft" fmla="*/ 360 w 2051280"/>
              <a:gd name="textAreaRight" fmla="*/ 2050920 w 2051280"/>
              <a:gd name="textAreaTop" fmla="*/ 360 h 4140000"/>
              <a:gd name="textAreaBottom" fmla="*/ 4139640 h 4140000"/>
            </a:gdLst>
            <a:ahLst/>
            <a:rect l="textAreaLeft" t="textAreaTop" r="textAreaRight" b="textAreaBottom"/>
            <a:pathLst>
              <a:path w="21600" h="43590">
                <a:moveTo>
                  <a:pt x="17" y="0"/>
                </a:moveTo>
                <a:arcTo wR="17" hR="17" stAng="16200000" swAng="-5400000"/>
                <a:lnTo>
                  <a:pt x="0" y="43573"/>
                </a:lnTo>
                <a:arcTo wR="17" hR="17" stAng="10800000" swAng="-5400000"/>
                <a:lnTo>
                  <a:pt x="21583" y="43590"/>
                </a:lnTo>
                <a:arcTo wR="17" hR="17" stAng="5400000" swAng="-5400000"/>
                <a:lnTo>
                  <a:pt x="21600" y="17"/>
                </a:lnTo>
                <a:arcTo wR="17" hR="17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1" name="Text Box 11"/>
          <p:cNvSpPr/>
          <p:nvPr/>
        </p:nvSpPr>
        <p:spPr>
          <a:xfrm>
            <a:off x="6983280" y="2573280"/>
            <a:ext cx="2052720" cy="33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500" spc="-1" strike="noStrike">
                <a:solidFill>
                  <a:srgbClr val="000000"/>
                </a:solidFill>
                <a:latin typeface="Arial"/>
              </a:rPr>
              <a:t>LA DICHIARAZIONE di VALORE della controversia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determinato in base ai criteri indicati nell'art. 12 del D.Lgs. 546/1992), la cui omissione comporta l'applicazione del Contributo unificato nella misura massima di € 1.500 (art. 13, comma 6,</a:t>
            </a:r>
            <a:r>
              <a:rPr b="0" lang="it-IT" sz="1300" spc="-1" strike="noStrike">
                <a:solidFill>
                  <a:srgbClr val="000000"/>
                </a:solidFill>
                <a:latin typeface="Arial"/>
              </a:rPr>
              <a:t> D.P.R. 115/2002).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2" name="Line 12"/>
          <p:cNvSpPr/>
          <p:nvPr/>
        </p:nvSpPr>
        <p:spPr>
          <a:xfrm flipH="1">
            <a:off x="3517560" y="1440000"/>
            <a:ext cx="631800" cy="720720"/>
          </a:xfrm>
          <a:prstGeom prst="line">
            <a:avLst/>
          </a:prstGeom>
          <a:ln w="468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3" name="Line 13"/>
          <p:cNvSpPr/>
          <p:nvPr/>
        </p:nvSpPr>
        <p:spPr>
          <a:xfrm>
            <a:off x="5580000" y="1440000"/>
            <a:ext cx="1979640" cy="720720"/>
          </a:xfrm>
          <a:prstGeom prst="line">
            <a:avLst/>
          </a:prstGeom>
          <a:ln w="468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0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4400" spc="-1" strike="noStrike" u="sng">
                <a:solidFill>
                  <a:srgbClr val="c5000b"/>
                </a:solidFill>
                <a:uFillTx/>
                <a:latin typeface="Arial"/>
              </a:rPr>
              <a:t>NUOVA MODALITÀ di PROPOSIZIONE del RICORSO</a:t>
            </a:r>
            <a:r>
              <a:rPr b="0" lang="it-IT" sz="4400" spc="-1" strike="noStrike">
                <a:solidFill>
                  <a:srgbClr val="c5000b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99680" y="3071880"/>
            <a:ext cx="821700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Mediante trasmissione telematica attraverso il SIGIT (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istema  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nformativo della  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GI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ustizia  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ributari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1T15:58:21Z</dcterms:created>
  <dc:creator>co</dc:creator>
  <dc:description/>
  <dc:language>en-US</dc:language>
  <cp:lastModifiedBy>casa</cp:lastModifiedBy>
  <dcterms:modified xsi:type="dcterms:W3CDTF">2018-04-12T16:38:51Z</dcterms:modified>
  <cp:revision>101</cp:revision>
  <dc:subject/>
  <dc:title>LE REGOLE del PROCESSO DAVANTI alla COMMISSIONE  TRIBUTARIA PROVINCIALE</dc:title>
</cp:coreProperties>
</file>